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76.png" ContentType="image/pn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28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26.jpeg" ContentType="image/jpeg"/>
  <Override PartName="/ppt/media/image50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presProps.xml" ContentType="application/vnd.openxmlformats-officedocument.presentationml.presPro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BC45D-C2F0-483D-A70D-BC8CD48A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CFB8-73A0-44C7-8625-C16D0E5E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D5B89-1050-425C-98F5-9A4A96C6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848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5152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8580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1848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5152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32C2-46E1-4FB7-BCFE-2F862892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F9AC-99D4-40B3-9933-8D66A22F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8A34-7FBD-49D7-BAED-97C77503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96F8-5C19-4AC0-A3AF-E5B45F6E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901C-E216-45BA-8C9B-DB49FEF2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A607-7F84-4897-BA95-EAA150D7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81120"/>
            <a:ext cx="7786800" cy="54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7D9A-D03A-4D9A-ABA9-60DEE961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79B5-D138-42CA-AE7D-00FC0C64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F5300-6113-445C-AF01-7972C643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4857-AB67-4B3D-8097-A76AFA6E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A20E-7968-43D4-AD6C-C6059CD0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DE2F-E224-49B9-BD87-940F5213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C915-B5A2-49FE-B007-30AA1C97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848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5152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848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5152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482C-C0EA-409F-9BF2-E6D84A5B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5431-91F4-4613-8A2A-A32DA913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A9F0-820D-41EA-A39D-79C1A3D6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DDC9F-AB9E-426D-AD60-91A594EC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5800" y="681120"/>
            <a:ext cx="7786800" cy="54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E9192-F5F0-422B-9EFA-E756894B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C744C-B857-45F0-991A-1793F62A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7923-DCE5-4968-9ADD-275B44ED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95DB-1EE6-485A-803A-45A805BD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68808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58240" y="0"/>
                <a:ext cx="171360" cy="684540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173160" cy="684216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406440" y="206280"/>
              <a:ext cx="8359560" cy="1665360"/>
              <a:chOff x="406440" y="206280"/>
              <a:chExt cx="8359560" cy="166536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406440" y="646200"/>
                <a:ext cx="8359560" cy="1225440"/>
                <a:chOff x="406440" y="646200"/>
                <a:chExt cx="8359560" cy="1225440"/>
              </a:xfrm>
            </p:grpSpPr>
            <p:grpSp>
              <p:nvGrpSpPr>
                <p:cNvPr id="8" name="Group 10"/>
                <p:cNvGrpSpPr/>
                <p:nvPr/>
              </p:nvGrpSpPr>
              <p:grpSpPr>
                <a:xfrm>
                  <a:off x="407880" y="660240"/>
                  <a:ext cx="8342280" cy="1195560"/>
                  <a:chOff x="407880" y="660240"/>
                  <a:chExt cx="8342280" cy="1195560"/>
                </a:xfrm>
              </p:grpSpPr>
              <p:sp>
                <p:nvSpPr>
                  <p:cNvPr id="9" name="Line 11"/>
                  <p:cNvSpPr/>
                  <p:nvPr/>
                </p:nvSpPr>
                <p:spPr>
                  <a:xfrm>
                    <a:off x="407880" y="660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Line 12"/>
                  <p:cNvSpPr/>
                  <p:nvPr/>
                </p:nvSpPr>
                <p:spPr>
                  <a:xfrm>
                    <a:off x="407880" y="957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Line 13"/>
                  <p:cNvSpPr/>
                  <p:nvPr/>
                </p:nvSpPr>
                <p:spPr>
                  <a:xfrm>
                    <a:off x="407880" y="1258920"/>
                    <a:ext cx="831852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Line 14"/>
                  <p:cNvSpPr/>
                  <p:nvPr/>
                </p:nvSpPr>
                <p:spPr>
                  <a:xfrm>
                    <a:off x="407880" y="1555920"/>
                    <a:ext cx="834228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Line 15"/>
                  <p:cNvSpPr/>
                  <p:nvPr/>
                </p:nvSpPr>
                <p:spPr>
                  <a:xfrm>
                    <a:off x="407880" y="1855800"/>
                    <a:ext cx="82965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" name="Rectangle 16"/>
                <p:cNvSpPr/>
                <p:nvPr/>
              </p:nvSpPr>
              <p:spPr>
                <a:xfrm>
                  <a:off x="406440" y="646200"/>
                  <a:ext cx="11124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8655120" y="646200"/>
                  <a:ext cx="11088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Group 18"/>
              <p:cNvGrpSpPr/>
              <p:nvPr/>
            </p:nvGrpSpPr>
            <p:grpSpPr>
              <a:xfrm>
                <a:off x="698400" y="206280"/>
                <a:ext cx="7767720" cy="1462320"/>
                <a:chOff x="698400" y="206280"/>
                <a:chExt cx="7767720" cy="1462320"/>
              </a:xfrm>
            </p:grpSpPr>
            <p:grpSp>
              <p:nvGrpSpPr>
                <p:cNvPr id="17" name="Group 19"/>
                <p:cNvGrpSpPr/>
                <p:nvPr/>
              </p:nvGrpSpPr>
              <p:grpSpPr>
                <a:xfrm>
                  <a:off x="698400" y="938160"/>
                  <a:ext cx="550800" cy="730440"/>
                  <a:chOff x="698400" y="938160"/>
                  <a:chExt cx="550800" cy="730440"/>
                </a:xfrm>
              </p:grpSpPr>
              <p:sp>
                <p:nvSpPr>
                  <p:cNvPr id="18" name="Freeform 20"/>
                  <p:cNvSpPr/>
                  <p:nvPr/>
                </p:nvSpPr>
                <p:spPr>
                  <a:xfrm>
                    <a:off x="971640" y="968400"/>
                    <a:ext cx="1440" cy="57132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963720" y="938160"/>
                    <a:ext cx="285480" cy="1890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698400" y="1465200"/>
                    <a:ext cx="284400" cy="2034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686720" y="484200"/>
                  <a:ext cx="779400" cy="826920"/>
                  <a:chOff x="7686720" y="484200"/>
                  <a:chExt cx="779400" cy="8269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>
                    <a:off x="7967520" y="631800"/>
                    <a:ext cx="1800" cy="55548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7686720" y="1114560"/>
                    <a:ext cx="291960" cy="19656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7964640" y="484200"/>
                    <a:ext cx="482400" cy="31608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8454960" y="495360"/>
                    <a:ext cx="1800" cy="58104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8175600" y="1017720"/>
                    <a:ext cx="290520" cy="19512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1413000" y="206280"/>
                  <a:ext cx="796680" cy="836640"/>
                  <a:chOff x="1413000" y="206280"/>
                  <a:chExt cx="796680" cy="8366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>
                    <a:off x="1704960" y="355680"/>
                    <a:ext cx="1440" cy="56196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1413000" y="84132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1697040" y="206280"/>
                    <a:ext cx="495360" cy="32544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2198520" y="216000"/>
                    <a:ext cx="1800" cy="57780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1906560" y="71424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f0e3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f91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FAE7-4BF4-40B5-89D8-9D3D9EEE0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 type="ftr" idx="3"/>
          </p:nvPr>
        </p:nvSpPr>
        <p:spPr>
          <a:xfrm>
            <a:off x="3124080" y="63241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75" name="Group 3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76" name="Rectangle 4"/>
              <p:cNvSpPr/>
              <p:nvPr/>
            </p:nvSpPr>
            <p:spPr>
              <a:xfrm>
                <a:off x="0" y="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77" name="Rectangle 5"/>
              <p:cNvSpPr/>
              <p:nvPr/>
            </p:nvSpPr>
            <p:spPr>
              <a:xfrm>
                <a:off x="0" y="668808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78" name="Rectangle 6"/>
              <p:cNvSpPr/>
              <p:nvPr/>
            </p:nvSpPr>
            <p:spPr>
              <a:xfrm>
                <a:off x="8958240" y="0"/>
                <a:ext cx="171360" cy="684540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79" name="Rectangle 7"/>
              <p:cNvSpPr/>
              <p:nvPr/>
            </p:nvSpPr>
            <p:spPr>
              <a:xfrm>
                <a:off x="0" y="0"/>
                <a:ext cx="173160" cy="684216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8"/>
            <p:cNvGrpSpPr/>
            <p:nvPr/>
          </p:nvGrpSpPr>
          <p:grpSpPr>
            <a:xfrm>
              <a:off x="406440" y="206280"/>
              <a:ext cx="8359560" cy="1665360"/>
              <a:chOff x="406440" y="206280"/>
              <a:chExt cx="8359560" cy="1665360"/>
            </a:xfrm>
          </p:grpSpPr>
          <p:grpSp>
            <p:nvGrpSpPr>
              <p:cNvPr id="81" name="Group 9"/>
              <p:cNvGrpSpPr/>
              <p:nvPr/>
            </p:nvGrpSpPr>
            <p:grpSpPr>
              <a:xfrm>
                <a:off x="406440" y="646200"/>
                <a:ext cx="8359560" cy="1225440"/>
                <a:chOff x="406440" y="646200"/>
                <a:chExt cx="8359560" cy="1225440"/>
              </a:xfrm>
            </p:grpSpPr>
            <p:grpSp>
              <p:nvGrpSpPr>
                <p:cNvPr id="82" name="Group 10"/>
                <p:cNvGrpSpPr/>
                <p:nvPr/>
              </p:nvGrpSpPr>
              <p:grpSpPr>
                <a:xfrm>
                  <a:off x="407880" y="660240"/>
                  <a:ext cx="8342280" cy="1195560"/>
                  <a:chOff x="407880" y="660240"/>
                  <a:chExt cx="8342280" cy="1195560"/>
                </a:xfrm>
              </p:grpSpPr>
              <p:sp>
                <p:nvSpPr>
                  <p:cNvPr id="83" name="Line 11"/>
                  <p:cNvSpPr/>
                  <p:nvPr/>
                </p:nvSpPr>
                <p:spPr>
                  <a:xfrm>
                    <a:off x="407880" y="660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Line 12"/>
                  <p:cNvSpPr/>
                  <p:nvPr/>
                </p:nvSpPr>
                <p:spPr>
                  <a:xfrm>
                    <a:off x="407880" y="957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Line 13"/>
                  <p:cNvSpPr/>
                  <p:nvPr/>
                </p:nvSpPr>
                <p:spPr>
                  <a:xfrm>
                    <a:off x="407880" y="1258920"/>
                    <a:ext cx="831852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Line 14"/>
                  <p:cNvSpPr/>
                  <p:nvPr/>
                </p:nvSpPr>
                <p:spPr>
                  <a:xfrm>
                    <a:off x="407880" y="1555920"/>
                    <a:ext cx="834228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Line 15"/>
                  <p:cNvSpPr/>
                  <p:nvPr/>
                </p:nvSpPr>
                <p:spPr>
                  <a:xfrm>
                    <a:off x="407880" y="1855800"/>
                    <a:ext cx="82965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" name="Rectangle 16"/>
                <p:cNvSpPr/>
                <p:nvPr/>
              </p:nvSpPr>
              <p:spPr>
                <a:xfrm>
                  <a:off x="406440" y="646200"/>
                  <a:ext cx="11124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17"/>
                <p:cNvSpPr/>
                <p:nvPr/>
              </p:nvSpPr>
              <p:spPr>
                <a:xfrm>
                  <a:off x="8655120" y="646200"/>
                  <a:ext cx="11088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18"/>
              <p:cNvGrpSpPr/>
              <p:nvPr/>
            </p:nvGrpSpPr>
            <p:grpSpPr>
              <a:xfrm>
                <a:off x="698400" y="206280"/>
                <a:ext cx="7767720" cy="1462320"/>
                <a:chOff x="698400" y="206280"/>
                <a:chExt cx="7767720" cy="1462320"/>
              </a:xfrm>
            </p:grpSpPr>
            <p:grpSp>
              <p:nvGrpSpPr>
                <p:cNvPr id="91" name="Group 19"/>
                <p:cNvGrpSpPr/>
                <p:nvPr/>
              </p:nvGrpSpPr>
              <p:grpSpPr>
                <a:xfrm>
                  <a:off x="698400" y="938160"/>
                  <a:ext cx="550800" cy="730440"/>
                  <a:chOff x="698400" y="938160"/>
                  <a:chExt cx="550800" cy="730440"/>
                </a:xfrm>
              </p:grpSpPr>
              <p:sp>
                <p:nvSpPr>
                  <p:cNvPr id="92" name="Freeform 20"/>
                  <p:cNvSpPr/>
                  <p:nvPr/>
                </p:nvSpPr>
                <p:spPr>
                  <a:xfrm>
                    <a:off x="971640" y="968400"/>
                    <a:ext cx="1440" cy="57132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21"/>
                  <p:cNvSpPr/>
                  <p:nvPr/>
                </p:nvSpPr>
                <p:spPr>
                  <a:xfrm>
                    <a:off x="963720" y="938160"/>
                    <a:ext cx="285480" cy="1890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22"/>
                  <p:cNvSpPr/>
                  <p:nvPr/>
                </p:nvSpPr>
                <p:spPr>
                  <a:xfrm>
                    <a:off x="698400" y="1465200"/>
                    <a:ext cx="284400" cy="2034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23"/>
                <p:cNvGrpSpPr/>
                <p:nvPr/>
              </p:nvGrpSpPr>
              <p:grpSpPr>
                <a:xfrm>
                  <a:off x="7686720" y="484200"/>
                  <a:ext cx="779400" cy="826920"/>
                  <a:chOff x="7686720" y="484200"/>
                  <a:chExt cx="779400" cy="826920"/>
                </a:xfrm>
              </p:grpSpPr>
              <p:sp>
                <p:nvSpPr>
                  <p:cNvPr id="96" name="Freeform 24"/>
                  <p:cNvSpPr/>
                  <p:nvPr/>
                </p:nvSpPr>
                <p:spPr>
                  <a:xfrm>
                    <a:off x="7967520" y="631800"/>
                    <a:ext cx="1800" cy="55548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25"/>
                  <p:cNvSpPr/>
                  <p:nvPr/>
                </p:nvSpPr>
                <p:spPr>
                  <a:xfrm>
                    <a:off x="7686720" y="1114560"/>
                    <a:ext cx="291960" cy="19656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26"/>
                  <p:cNvSpPr/>
                  <p:nvPr/>
                </p:nvSpPr>
                <p:spPr>
                  <a:xfrm>
                    <a:off x="7964640" y="484200"/>
                    <a:ext cx="482400" cy="31608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27"/>
                  <p:cNvSpPr/>
                  <p:nvPr/>
                </p:nvSpPr>
                <p:spPr>
                  <a:xfrm>
                    <a:off x="8454960" y="495360"/>
                    <a:ext cx="1800" cy="58104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28"/>
                  <p:cNvSpPr/>
                  <p:nvPr/>
                </p:nvSpPr>
                <p:spPr>
                  <a:xfrm>
                    <a:off x="8175600" y="1017720"/>
                    <a:ext cx="290520" cy="19512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29"/>
                <p:cNvGrpSpPr/>
                <p:nvPr/>
              </p:nvGrpSpPr>
              <p:grpSpPr>
                <a:xfrm>
                  <a:off x="1413000" y="206280"/>
                  <a:ext cx="796680" cy="836640"/>
                  <a:chOff x="1413000" y="206280"/>
                  <a:chExt cx="796680" cy="836640"/>
                </a:xfrm>
              </p:grpSpPr>
              <p:sp>
                <p:nvSpPr>
                  <p:cNvPr id="102" name="Freeform 30"/>
                  <p:cNvSpPr/>
                  <p:nvPr/>
                </p:nvSpPr>
                <p:spPr>
                  <a:xfrm>
                    <a:off x="1704960" y="355680"/>
                    <a:ext cx="1440" cy="56196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31"/>
                  <p:cNvSpPr/>
                  <p:nvPr/>
                </p:nvSpPr>
                <p:spPr>
                  <a:xfrm>
                    <a:off x="1413000" y="84132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32"/>
                  <p:cNvSpPr/>
                  <p:nvPr/>
                </p:nvSpPr>
                <p:spPr>
                  <a:xfrm>
                    <a:off x="1697040" y="206280"/>
                    <a:ext cx="495360" cy="32544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33"/>
                  <p:cNvSpPr/>
                  <p:nvPr/>
                </p:nvSpPr>
                <p:spPr>
                  <a:xfrm>
                    <a:off x="2198520" y="216000"/>
                    <a:ext cx="1800" cy="57780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34"/>
                  <p:cNvSpPr/>
                  <p:nvPr/>
                </p:nvSpPr>
                <p:spPr>
                  <a:xfrm>
                    <a:off x="1906560" y="71424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f0e3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f91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1ce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0B34-CC3B-438A-8F33-5B28413E71F7}" type="slidenum">
              <a:rPr b="0" lang="en-US" sz="1400" spc="-1" strike="noStrike">
                <a:solidFill>
                  <a:srgbClr val="c1ce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z.about.com/d/culinaryarts/1/0/o/4/-/-/eggsbeat.jpg&amp;imgrefurl=http://culinaryarts.about.com/od/bakingdesserts/ss/scones_2.htm&amp;usg=__TsPUhucLK0RYN86QMsCQ42ON2yU=&amp;h=376&amp;w=400&amp;sz=42&amp;hl=EN&amp;start=1&amp;tbnid=suu35JUPHRuMGM:&amp;tbnh=117&amp;tbnw=124&amp;prev=/images?q=beat+eggs&amp;gbv=2&amp;hl=EN" TargetMode="External"/><Relationship Id="rId2" Type="http://schemas.openxmlformats.org/officeDocument/2006/relationships/image" Target="../media/image53.jpeg"/><Relationship Id="rId3" Type="http://schemas.openxmlformats.org/officeDocument/2006/relationships/hyperlink" Target="http://images.google.com/imgres?imgurl=http://www.srh.noaa.gov/lch/prep/heat.jpg&amp;imgrefurl=http://www.srh.noaa.gov/lch/prep/hazwxprep.php&amp;usg=__L8s-7FjeMHpEb_65tMMyTTRQ7XU=&amp;h=463&amp;w=700&amp;sz=46&amp;hl=EN&amp;start=1&amp;tbnid=v3pDHUOl8zdN9M:&amp;tbnh=93&amp;tbnw=140&amp;prev=/images?q=heat&amp;gbv=2&amp;hl=EN" TargetMode="External"/><Relationship Id="rId4" Type="http://schemas.openxmlformats.org/officeDocument/2006/relationships/image" Target="../media/image54.jpeg"/><Relationship Id="rId5" Type="http://schemas.openxmlformats.org/officeDocument/2006/relationships/hyperlink" Target="http://images.google.com/imgres?imgurl=http://www.lisburncity.gov.uk/filestore/images/Raw-Meat-1.jpg&amp;imgrefurl=http://www.lisburncity.gov.uk/your-city-council/council-departments/environmental-services/environmental-health/food-control/a-z-food-safety/&amp;usg=__axEl9wp1H7lu-VbCBvvkizGy-jw=&amp;h=425&amp;w=600&amp;sz=80&amp;hl=EN&amp;start=1&amp;tbnid=EArbjuLRLLoE7M:&amp;tbnh=96&amp;tbnw=135&amp;prev=/images?q=meat&amp;gbv=2&amp;hl=EN" TargetMode="External"/><Relationship Id="rId6" Type="http://schemas.openxmlformats.org/officeDocument/2006/relationships/image" Target="../media/image55.jpeg"/><Relationship Id="rId7" Type="http://schemas.openxmlformats.org/officeDocument/2006/relationships/hyperlink" Target="http://images.google.com/imgres?imgurl=http://media-cdn.tripadvisor.com/media/photo-s/01/1e/73/64/neat-and-clean-new-rooms.jpg&amp;imgrefurl=http://www.tripadvisor.com/LocationPhotos-g155032-d817421-Fairfield_Inn_Suites_Montreal_Airport-Montreal_Quebec.html&amp;usg=__B_I2W3y-5OGK7ByHGPNnZSPPptE=&amp;h=412&amp;w=550&amp;sz=30&amp;hl=EN&amp;start=87&amp;tbnid=wB6KPyvXJuFGFM:&amp;tbnh=100&amp;tbnw=133&amp;prev=/images?q=neat&amp;gbv=2&amp;ndsp=20&amp;hl=EN&amp;sa=N&amp;start=80" TargetMode="External"/><Relationship Id="rId8" Type="http://schemas.openxmlformats.org/officeDocument/2006/relationships/image" Target="../media/image56.jpeg"/><Relationship Id="rId9" Type="http://schemas.openxmlformats.org/officeDocument/2006/relationships/hyperlink" Target="http://images.google.com/imgres?imgurl=http://forums.mooseyscountrygarden.com/files/thumbs/t_compost_peat_moss_202.jpg&amp;imgrefurl=http://forums.mooseyscountrygarden.com/garden686.html&amp;usg=__7lWktTRitImOcbiPne3cTJRWRRU=&amp;h=300&amp;w=400&amp;sz=33&amp;hl=EN&amp;start=13&amp;tbnid=Vtggeoubo_RfzM:&amp;tbnh=93&amp;tbnw=124&amp;prev=/images?q=peat&amp;gbv=2&amp;hl=EN" TargetMode="External"/><Relationship Id="rId10" Type="http://schemas.openxmlformats.org/officeDocument/2006/relationships/image" Target="../media/image57.jpeg"/><Relationship Id="rId11" Type="http://schemas.openxmlformats.org/officeDocument/2006/relationships/hyperlink" Target="http://images.google.com/imgres?imgurl=http://z.about.com/d/pediatrics/1/0/y/K/winter_coat_car_seat.jpg&amp;imgrefurl=http://pediatrics.about.com/od/safety/ig/First-Aid-and-Safety/Car-Seats-and-Winter-Coats.htm&amp;usg=__xpA8975xxNPvoZ4gyY7jucsA76Y=&amp;h=300&amp;w=400&amp;sz=159&amp;hl=EN&amp;start=104&amp;tbnid=kdb5JRgRdREE8M:&amp;tbnh=93&amp;tbnw=124&amp;prev=/images?q=seat&amp;gbv=2&amp;ndsp=20&amp;hl=EN&amp;sa=N&amp;start=100" TargetMode="External"/><Relationship Id="rId12" Type="http://schemas.openxmlformats.org/officeDocument/2006/relationships/image" Target="../media/image58.jpeg"/><Relationship Id="rId13" Type="http://schemas.openxmlformats.org/officeDocument/2006/relationships/hyperlink" Target="http://images.google.com/imgres?imgurl=http://www.sneakerfiles.com/wp-content/uploads/2007/03/jordan-vi-cleat-2.jpg&amp;imgrefurl=http://www.sneakerfiles.com/2007/03/12/air-jordan-vi-low-cleat/&amp;usg=__cuy02s3x3N5xemadtwWlKdE-Sms=&amp;h=450&amp;w=450&amp;sz=128&amp;hl=EN&amp;start=3&amp;tbnid=WuH9fWbiPkX-OM:&amp;tbnh=127&amp;tbnw=127&amp;prev=/images?q=cleat&amp;gbv=2&amp;hl=EN" TargetMode="External"/><Relationship Id="rId14" Type="http://schemas.openxmlformats.org/officeDocument/2006/relationships/image" Target="../media/image59.jpeg"/><Relationship Id="rId15" Type="http://schemas.openxmlformats.org/officeDocument/2006/relationships/hyperlink" Target="http://images.google.com/imgres?imgurl=http://3.bp.blogspot.com/_7T6eQRr_0A8/SYY-2dHhRWI/AAAAAAAACxc/hZZhLEB0BQc/s320/bleat.jpg&amp;imgrefurl=http://isaratoga.blogspot.com/2009_02_01_archive.html&amp;usg=__oxTqwH-HSnZGpVM6MtovGT9ZYKU=&amp;h=320&amp;w=286&amp;sz=21&amp;hl=EN&amp;start=4&amp;tbnid=mJAheeFCiC_RhM:&amp;tbnh=118&amp;tbnw=105&amp;prev=/images?q=bleat&amp;gbv=2&amp;hl=EN" TargetMode="External"/><Relationship Id="rId16" Type="http://schemas.openxmlformats.org/officeDocument/2006/relationships/image" Target="../media/image60.jpeg"/><Relationship Id="rId17" Type="http://schemas.openxmlformats.org/officeDocument/2006/relationships/hyperlink" Target="http://images.google.com/imgres?imgurl=http://www.bennettscurtainshop.com.au/uploadimages/triple%2520pinch%2520pleat.JPG&amp;imgrefurl=http://www.bennettscurtainshop.com.au/default_2ndpage.asp?documentid=61&amp;usg=__R9At2jSrpFKC580r5BHsYGqgCfs=&amp;h=460&amp;w=635&amp;sz=31&amp;hl=EN&amp;start=11&amp;tbnid=QKPfmcWtwr2ZKM:&amp;tbnh=99&amp;tbnw=137&amp;prev=/images?q=pleat&amp;gbv=2&amp;hl=EN" TargetMode="External"/><Relationship Id="rId18" Type="http://schemas.openxmlformats.org/officeDocument/2006/relationships/image" Target="../media/image61.jpeg"/><Relationship Id="rId19" Type="http://schemas.openxmlformats.org/officeDocument/2006/relationships/hyperlink" Target="http://images.google.com/imgres?imgurl=http://www.harboradvice.com/uploaded_images/Failed-Cleat-718224.jpg&amp;imgrefurl=http://www.harboradvice.com/2006/11/test.html&amp;usg=__KjcpXWXOQIDp4xaZdSeCzyb4etQ=&amp;h=480&amp;w=640&amp;sz=174&amp;hl=EN&amp;start=5&amp;tbnid=EVM7D6M6DJuE_M:&amp;tbnh=103&amp;tbnw=137&amp;prev=/images?q=cleat&amp;gbv=2&amp;hl=EN" TargetMode="External"/><Relationship Id="rId20" Type="http://schemas.openxmlformats.org/officeDocument/2006/relationships/image" Target="../media/image62.jpeg"/><Relationship Id="rId2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anwarne.com/wp-content/uploads/2007/03/hick.jpg&amp;imgrefurl=http://danwarne.com/mark-from-greenacre-cant-spell-acdc/&amp;usg=__ezkhiJxs3UuIheUn1oPivEtgswc=&amp;h=231&amp;w=215&amp;sz=9&amp;hl=EN&amp;start=11&amp;tbnid=gQ7H9nUlD8I9HM:&amp;tbnh=108&amp;tbnw=101&amp;prev=/images?q=hick&amp;gbv=2&amp;ndsp=20&amp;hl=EN&amp;sa=N" TargetMode="External"/><Relationship Id="rId2" Type="http://schemas.openxmlformats.org/officeDocument/2006/relationships/image" Target="../media/image63.jpeg"/><Relationship Id="rId3" Type="http://schemas.openxmlformats.org/officeDocument/2006/relationships/hyperlink" Target="http://images.google.com/imgres?imgurl=http://www.secsportsfan.com/images/womens-soccer-kick.jpg&amp;imgrefurl=http://www.secsportsfan.com/sec-soccer.html&amp;usg=__b_Vtcd2IvRk1zfIUscHjsRZdURA=&amp;h=600&amp;w=450&amp;sz=77&amp;hl=EN&amp;start=21&amp;tbnid=qkxu8D5A9UYOuM:&amp;tbnh=135&amp;tbnw=101&amp;prev=/images?q=kick&amp;gbv=2&amp;ndsp=20&amp;hl=EN&amp;sa=N&amp;start=20" TargetMode="External"/><Relationship Id="rId4" Type="http://schemas.openxmlformats.org/officeDocument/2006/relationships/image" Target="../media/image64.jpeg"/><Relationship Id="rId5" Type="http://schemas.openxmlformats.org/officeDocument/2006/relationships/hyperlink" Target="http://images.google.com/imgres?imgurl=http://blogs.bootsnall.com/Dawn+on+the+Amazon/files/2007/12/Tony%2520at%2520a%2520mineral%2520lick.jpg&amp;imgrefurl=http://blogs.bootsnall.com/Dawn-on-the-Amazon/&amp;usg=__iyAw-ASP2Z2a2M7eV_PX3x5-5h0=&amp;h=375&amp;w=500&amp;sz=240&amp;hl=EN&amp;start=20&amp;tbnid=rcJ8Jm2jsJ4N2M:&amp;tbnh=98&amp;tbnw=130&amp;prev=/images?q=lick&amp;gbv=2&amp;hl=EN" TargetMode="External"/><Relationship Id="rId6" Type="http://schemas.openxmlformats.org/officeDocument/2006/relationships/image" Target="../media/image65.jpeg"/><Relationship Id="rId7" Type="http://schemas.openxmlformats.org/officeDocument/2006/relationships/hyperlink" Target="http://images.google.com/imgres?imgurl=http://www.kmcreative.net/sick_in_bed.jpg&amp;imgrefurl=http://groups.yahoo.com/group/textonly_howdy/message/1988&amp;usg=__MdEkx4-WxRLam2gAgHyoq08TmoU=&amp;h=363&amp;w=400&amp;sz=53&amp;hl=EN&amp;start=12&amp;tbnid=I4bMl492H89-qM:&amp;tbnh=113&amp;tbnw=124&amp;prev=/images?q=sick&amp;gbv=2&amp;hl=EN" TargetMode="External"/><Relationship Id="rId8" Type="http://schemas.openxmlformats.org/officeDocument/2006/relationships/image" Target="../media/image66.jpeg"/><Relationship Id="rId9" Type="http://schemas.openxmlformats.org/officeDocument/2006/relationships/hyperlink" Target="http://images.google.com/imgres?imgurl=http://www.southbostonanimalhospital.com/storage/itchtick_AmericanDogTick_2.jpg&amp;imgrefurl=http://www.southbostonanimalhospital.com/&amp;usg=__-gYwdj-qYw8jsBI5F6BHwgsXx3k=&amp;h=654&amp;w=713&amp;sz=119&amp;hl=EN&amp;start=5&amp;tbnid=Bz06kPTjlSRdaM:&amp;tbnh=128&amp;tbnw=140&amp;prev=/images?q=tick&amp;gbv=2&amp;hl=EN" TargetMode="External"/><Relationship Id="rId10" Type="http://schemas.openxmlformats.org/officeDocument/2006/relationships/image" Target="../media/image67.jpeg"/><Relationship Id="rId11" Type="http://schemas.openxmlformats.org/officeDocument/2006/relationships/hyperlink" Target="http://images.google.com/imgres?imgurl=http://images.replacements.com/images/images5/china/P/porsgrund_hearts_pines_multisided_candle_bowl_with_lid_1_wick_P0000076868S0015T2.jpg&amp;imgrefurl=http://www.replacements.com/webquote/PRGHEP.htm&amp;usg=__qhi9PFkUvHDuo7HvqKe8ubNCdAk=&amp;h=450&amp;w=349&amp;sz=13&amp;hl=EN&amp;start=12&amp;tbnid=DW6jklXWEmvoQM:&amp;tbnh=127&amp;tbnw=98&amp;prev=/images?q=wick&amp;gbv=2&amp;hl=EN" TargetMode="External"/><Relationship Id="rId12" Type="http://schemas.openxmlformats.org/officeDocument/2006/relationships/image" Target="../media/image68.jpeg"/><Relationship Id="rId13" Type="http://schemas.openxmlformats.org/officeDocument/2006/relationships/hyperlink" Target="http://images.google.com/imgres?imgurl=http://www.cdb.riken.go.jp/jp/04_news/annual_reports/2003/WebHelp/chick.jpg&amp;imgrefurl=http://www.cdb.riken.go.jp/jp/04_news/annual_reports/2003/WebHelp/Bird.htm&amp;usg=__rj4UQLlB4MERWK3YGikx-ZDTjkQ=&amp;h=833&amp;w=1112&amp;sz=341&amp;hl=EN&amp;start=3&amp;tbnid=QKs49Yq0Bkz1pM:&amp;tbnh=112&amp;tbnw=150&amp;prev=/images?q=chick&amp;gbv=2&amp;hl=EN" TargetMode="External"/><Relationship Id="rId14" Type="http://schemas.openxmlformats.org/officeDocument/2006/relationships/image" Target="../media/image69.jpeg"/><Relationship Id="rId15" Type="http://schemas.openxmlformats.org/officeDocument/2006/relationships/hyperlink" Target="http://images.google.com/imgres?imgurl=http://blog.oregonlive.com/blazers/2008/04/oden-quick.jpg&amp;imgrefurl=http://blog.oregonlive.com/blazers/quick_chat/&amp;usg=__KtPPwp6DtFWA5vFwzY-gZVqpEt4=&amp;h=333&amp;w=500&amp;sz=111&amp;hl=EN&amp;start=1&amp;tbnid=F4WjVeDXtdjg3M:&amp;tbnh=87&amp;tbnw=130&amp;prev=/images?q=quick&amp;gbv=2&amp;hl=EN" TargetMode="External"/><Relationship Id="rId16" Type="http://schemas.openxmlformats.org/officeDocument/2006/relationships/image" Target="../media/image70.jpeg"/><Relationship Id="rId17" Type="http://schemas.openxmlformats.org/officeDocument/2006/relationships/image" Target="../media/image71.jpeg"/><Relationship Id="rId18" Type="http://schemas.openxmlformats.org/officeDocument/2006/relationships/image" Target="../media/image72.jpeg"/><Relationship Id="rId19" Type="http://schemas.openxmlformats.org/officeDocument/2006/relationships/image" Target="../media/image73.jpeg"/><Relationship Id="rId20" Type="http://schemas.openxmlformats.org/officeDocument/2006/relationships/image" Target="../media/image74.jpeg"/><Relationship Id="rId2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ottsboro.org/~flewis/Class%20Tools/Bremen%20Town%20Musicians.htm" TargetMode="External"/><Relationship Id="rId2" Type="http://schemas.openxmlformats.org/officeDocument/2006/relationships/hyperlink" Target="http://scottsboro.org/~flewis/SF%20Reading%20Street/spellmaster/Bremen%20Town%20Musicians/jigword2.html" TargetMode="External"/><Relationship Id="rId3" Type="http://schemas.openxmlformats.org/officeDocument/2006/relationships/hyperlink" Target="http://scottsboro.org/~flewis/SF%20Reading%20Street/spellmaster/Bremen%20Town%20Musicians/matchword2.html" TargetMode="External"/><Relationship Id="rId4" Type="http://schemas.openxmlformats.org/officeDocument/2006/relationships/hyperlink" Target="http://scottsboro.org/~flewis/SF%20Reading%20Street/spellmaster/Bremen%20Town%20Musicians/speedword2.html" TargetMode="External"/><Relationship Id="rId5" Type="http://schemas.openxmlformats.org/officeDocument/2006/relationships/hyperlink" Target="http://scottsboro.org/~flewis/SF%20Reading%20Street/spellmaster/Bremen%20Town%20Musicians/wordsearch2.html" TargetMode="External"/><Relationship Id="rId6" Type="http://schemas.openxmlformats.org/officeDocument/2006/relationships/hyperlink" Target="http://scottsboro.org/~flewis/SF%20Reading%20Street/spellmaster/Bremen%20Town%20Musicians/wordweb.html" TargetMode="External"/><Relationship Id="rId7" Type="http://schemas.openxmlformats.org/officeDocument/2006/relationships/hyperlink" Target="http://www.spellingcity.com/index.php?option=com_spellcity&amp;task=viewList&amp;listId=825930" TargetMode="External"/><Relationship Id="rId8" Type="http://schemas.openxmlformats.org/officeDocument/2006/relationships/hyperlink" Target="http://www.spellingcity.com/index.php?option=com_spellcity&amp;task=viewList&amp;listId=825935" TargetMode="External"/><Relationship Id="rId9" Type="http://schemas.openxmlformats.org/officeDocument/2006/relationships/hyperlink" Target="http://scottsboro.org/~flewis/SF%20Reading%20Street/spellmaster/Bremen%20Town%20Musicians%20Spelling%20Words/speedword2.html" TargetMode="External"/><Relationship Id="rId10" Type="http://schemas.openxmlformats.org/officeDocument/2006/relationships/hyperlink" Target="http://scottsboro.org/~flewis/SF%20Reading%20Street/spellmaster/Bremen%20Town%20Musicians%20Spelling%20Words/wordweb.html" TargetMode="External"/><Relationship Id="rId11" Type="http://schemas.openxmlformats.org/officeDocument/2006/relationships/hyperlink" Target="http://www.quia.com/rd/58331.html" TargetMode="External"/><Relationship Id="rId12" Type="http://schemas.openxmlformats.org/officeDocument/2006/relationships/hyperlink" Target="http://www.spellingcity.com/index.php?option=com_spellcity&amp;Itemid=122&amp;task=viewList&amp;listId=354223" TargetMode="External"/><Relationship Id="rId13" Type="http://schemas.openxmlformats.org/officeDocument/2006/relationships/hyperlink" Target="http://scottsboro.org/~flewis/SF%20Reading%20Street/Hot%20Potatoes/Bremen_Town_Musician.htm" TargetMode="External"/><Relationship Id="rId14" Type="http://schemas.openxmlformats.org/officeDocument/2006/relationships/hyperlink" Target="http://www.spellingcity.com/index.php?option=com_spellcity&amp;task=viewList&amp;listId=825937" TargetMode="External"/><Relationship Id="rId15" Type="http://schemas.openxmlformats.org/officeDocument/2006/relationships/hyperlink" Target="http://www.spellingcity.com/index.php?option=com_spellcity&amp;task=viewList&amp;listId=825937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southtownstar.com/money/cash.jpg&amp;imgrefurl=http://blogs.southtownstar.com/money/2008/12/&amp;usg=__J_rkGz3tUun8fju-YSfSTKy1ilU=&amp;h=333&amp;w=500&amp;sz=76&amp;hl=EN&amp;start=8&amp;tbnid=Pgh4NVk66_71-M:&amp;tbnh=87&amp;tbnw=130&amp;prev=/images?q=cash&amp;gbv=2&amp;hl=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doclibrary.com/MFR457/IMG/Dash_Family_300_dpi_whiteback.jpg&amp;imgrefurl=http://www.mrsdashrecipes.com/&amp;usg=__i_xu549cbmT2ULLPqx6SwSEJNQ4=&amp;h=448&amp;w=324&amp;sz=116&amp;hl=EN&amp;start=128&amp;tbnid=cJeCOBaHPI7ZpM:&amp;tbnh=127&amp;tbnw=92&amp;prev=/images?q=dash&amp;gbv=2&amp;ndsp=18&amp;hl=EN&amp;sa=N&amp;start=126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blogs.warwick.ac.uk/images/emilylewis/2005/03/01/dscn1258.jpg&amp;imgrefurl=http://blogs.warwick.ac.uk/emilylewis/newentries/?num=10&amp;start=40&amp;usg=__VilHO5_LS_cVpupuWiR_f-y54Hg=&amp;h=600&amp;w=800&amp;sz=48&amp;hl=EN&amp;start=16&amp;tbnid=6zQNYgiKuTNW7M:&amp;tbnh=107&amp;tbnw=143&amp;prev=/images?q=gash&amp;gbv=2&amp;ndsp=18&amp;hl=EN&amp;sa=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simplyrecipes.com/photos/corned-beef-hash-a.jpg&amp;imgrefurl=http://simplyrecipes.com/recipes/corned_beef_hash/&amp;usg=__G2wB-zDXtPwS_H2GKfRwvAO9p0I=&amp;h=333&amp;w=500&amp;sz=61&amp;hl=EN&amp;start=85&amp;tbnid=5gzzD4o8lOkK1M:&amp;tbnh=87&amp;tbnw=130&amp;prev=/images?q=hash&amp;gbv=2&amp;ndsp=18&amp;hl=EN&amp;sa=N&amp;start=72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m/imgres?imgurl=http://permanentcosmeticsbymicheleknittel.com/pictures/lashes/lash6.jpg&amp;imgrefurl=http://permanentcosmeticsbymicheleknittel.com/pictures/index.html&amp;usg=__pSneG_n6UbJsRPzrQJYRyre_fUY=&amp;h=334&amp;w=400&amp;sz=58&amp;hl=EN&amp;start=3&amp;tbnid=15WxZ5rl1tgrzM:&amp;tbnh=104&amp;tbnw=124&amp;prev=/images?q=lash&amp;gbv=2&amp;hl=E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com/imgres?imgurl=http://ninjabread.files.wordpress.com/2008/10/mashed-potatoes-abfood0107-de-766032.jpg&amp;imgrefurl=http://ninjabread.wordpress.com/2008/10/09/mashed-potatoes/&amp;usg=__nvJ1J1PplBnEtAbpl5cvqwqyZSw=&amp;h=460&amp;w=360&amp;sz=30&amp;hl=EN&amp;start=1&amp;tbnid=M_r4YbGwsmXJTM:&amp;tbnh=128&amp;tbnw=100&amp;prev=/images?q=mashed+potatoes&amp;gbv=2&amp;hl=EN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owl.me.uk/img-lib/rash.jpg&amp;imgrefurl=http://tallywilgis.blogspot.com/2006_12_01_archive.html&amp;usg=__-kekDWLy-x9A60Onv_1L0gK3Ucs=&amp;h=784&amp;w=542&amp;sz=46&amp;hl=EN&amp;start=3&amp;tbnid=wj7RGS4Tb75TiM:&amp;tbnh=143&amp;tbnw=99&amp;prev=/images?q=rash&amp;gbv=2&amp;hl=EN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images.google.com/imgres?imgurl=http://s7d4.scene7.com/ir/render/AlfredAngeloRender/SASH-3-600?wid=340&amp;obj=main&amp;sharpen=1&amp;imgrefurl=http://women-weddingdress.blogspot.com/2008/01/alfred-angelo-sash-3-white-wedding-gown.html&amp;usg=__OxXWP6kZ0lHw8RfSsH6mDZpZMUk=&amp;h=450&amp;w=340&amp;sz=31&amp;hl=EN&amp;start=29&amp;tbnid=rOCPAdpOdy6PgM:&amp;tbnh=127&amp;tbnw=96&amp;prev=/images?q=sash&amp;gbv=2&amp;ndsp=18&amp;hl=EN&amp;sa=N&amp;start=18" TargetMode="External"/><Relationship Id="rId16" Type="http://schemas.openxmlformats.org/officeDocument/2006/relationships/image" Target="../media/image10.jpeg"/><Relationship Id="rId17" Type="http://schemas.openxmlformats.org/officeDocument/2006/relationships/hyperlink" Target="http://images.google.com/imgres?imgurl=http://www.sashwindows-northwest.co.uk/images/sash-windows-installation.jpg&amp;imgrefurl=http://www.sashwindows-northwest.co.uk/sash-windows.html&amp;usg=__rjyWMHMxuXMpsN-V11v0jYONAls=&amp;h=250&amp;w=250&amp;sz=7&amp;hl=EN&amp;start=46&amp;tbnid=8cOSNkQSFc8zKM:&amp;tbnh=111&amp;tbnw=111&amp;prev=/images?q=sash&amp;gbv=2&amp;ndsp=18&amp;hl=EN&amp;sa=N&amp;start=36" TargetMode="External"/><Relationship Id="rId18" Type="http://schemas.openxmlformats.org/officeDocument/2006/relationships/image" Target="../media/image11.jpeg"/><Relationship Id="rId19" Type="http://schemas.openxmlformats.org/officeDocument/2006/relationships/hyperlink" Target="http://images.google.com/imgres?imgurl=http://www.germes-online.com/direct/dbimage/50117387/Easydisk__Flash_USB_Drive_.jpg&amp;imgrefurl=http://www.germes-online.com/catalog/525/342225/easydisk_flash_usb_.html&amp;usg=__DA2xEpV15dSEHk1lKwOq1rZR9dE=&amp;h=360&amp;w=360&amp;sz=17&amp;hl=EN&amp;start=94&amp;tbnid=ztH9sOZoIFX0XM:&amp;tbnh=121&amp;tbnw=121&amp;prev=/images?q=flash&amp;gbv=2&amp;ndsp=18&amp;hl=EN&amp;sa=N&amp;start=90" TargetMode="External"/><Relationship Id="rId20" Type="http://schemas.openxmlformats.org/officeDocument/2006/relationships/image" Target="../media/image12.jpeg"/><Relationship Id="rId21" Type="http://schemas.openxmlformats.org/officeDocument/2006/relationships/hyperlink" Target="http://images.google.com/imgres?imgurl=http://www.droto.com/blog/wp-content/uploads/2008/02/camera_flash.jpg&amp;imgrefurl=http://www.droto.com/blog/&amp;usg=__uN2oYzvwHhPlvwqh1zulpu0A7ig=&amp;h=560&amp;w=420&amp;sz=25&amp;hl=EN&amp;start=2&amp;tbnid=chH802VxMdbbZM:&amp;tbnh=133&amp;tbnw=100&amp;prev=/images?q=cameraflash&amp;gbv=2&amp;hl=EN" TargetMode="External"/><Relationship Id="rId22" Type="http://schemas.openxmlformats.org/officeDocument/2006/relationships/image" Target="../media/image13.jpeg"/><Relationship Id="rId23" Type="http://schemas.openxmlformats.org/officeDocument/2006/relationships/hyperlink" Target="http://images.google.com/imgres?imgurl=http://outfoxingkarlrove.files.wordpress.com/2008/10/tire-slashed.jpg&amp;imgrefurl=http://outfoxingkarlrove.wordpress.com/2008/10/20/obama-rally-supporters-tires-slashed/&amp;usg=__5TRZLMPJHBZr9dBiBnd0c1TEZ7g=&amp;h=300&amp;w=400&amp;sz=64&amp;hl=EN&amp;start=1&amp;tbnid=QD4NB--iU3bw7M:&amp;tbnh=93&amp;tbnw=124&amp;prev=/images?q=slash+tires&amp;gbv=2&amp;hl=EN" TargetMode="External"/><Relationship Id="rId24" Type="http://schemas.openxmlformats.org/officeDocument/2006/relationships/image" Target="../media/image14.jpeg"/><Relationship Id="rId25" Type="http://schemas.openxmlformats.org/officeDocument/2006/relationships/hyperlink" Target="http://images.google.com/imgres?imgurl=http://blog.tmcnet.com/blog/tom-keating/images/hulk-smash.jpg&amp;imgrefurl=http://blog.tmcnet.com/blog/tom-keating/asterisk/hulk-smash-asterisk-16.asp&amp;usg=___CeZ9fNgYUdw8SYUF3IQeZ1ukpA=&amp;h=346&amp;w=350&amp;sz=43&amp;hl=EN&amp;start=15&amp;tbnid=P3FoVRYERAgEKM:&amp;tbnh=119&amp;tbnw=120&amp;prev=/images?q=smash&amp;gbv=2&amp;hl=EN" TargetMode="External"/><Relationship Id="rId26" Type="http://schemas.openxmlformats.org/officeDocument/2006/relationships/image" Target="../media/image15.jpeg"/><Relationship Id="rId2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1/17/Dates_on_date_palm.jpg&amp;imgrefurl=http://en.wikipedia.org/wiki/File:Dates_on_date_palm.jpg&amp;usg=__U1lHjF36pw69-BGeG2SclNwU_Z8=&amp;h=875&amp;w=600&amp;sz=180&amp;hl=EN&amp;start=12&amp;tbnid=f_WXEEEVdRXd5M:&amp;tbnh=146&amp;tbnw=100&amp;prev=/images?q=date&amp;gbv=2&amp;hl=E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vertex42.com/calendars/images/monthly-calendar-template-large.gif&amp;imgrefurl=http://www.vertex42.com/calendars/monthly-calendar.html&amp;usg=__fOJrNBvLk-3Hj4TgwJ0-NImgqDs=&amp;h=659&amp;w=682&amp;sz=21&amp;hl=EN&amp;start=2&amp;tbnid=2xEUmFuBS5fenM:&amp;tbnh=134&amp;tbnw=139&amp;prev=/images?q=calendar&amp;gbv=2&amp;hl=EN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imagecache5.art.com/p/LRG/19/1919/1OM9D00Z/steven-mitchell-the-opened-gate.jpg&amp;imgrefurl=http://www.art.com/products/p12554063-sa-i1919404/steven-mitchell-the-opened-gate.htm&amp;usg=__HjZhYHdi8nz1zmKJU4AfExNtBSk=&amp;h=450&amp;w=353&amp;sz=56&amp;hl=EN&amp;start=1&amp;tbnid=xYftbY23QA3kUM:&amp;tbnh=127&amp;tbnw=100&amp;prev=/images?q=gate&amp;gbv=2&amp;hl=EN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www.siestacrafts.co.uk/__uploads/Catalog/NK21B%2520space%2520dye%2520cotton%2520gloves_1.jpg&amp;imgrefurl=http://www.siestacrafts.co.uk/products.aspx?catalog_id=74&amp;usg=__cuzeWVvwqhIkAJkplxwc7oMKfRk=&amp;h=533&amp;w=400&amp;sz=104&amp;hl=EN&amp;start=5&amp;tbnid=jlu4nYa8sygCUM:&amp;tbnh=132&amp;tbnw=99&amp;prev=/images?q=gloves&amp;gbv=2&amp;hl=EN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www.webdesign.org/img_articles/4993/crate18.jpg&amp;imgrefurl=http://www.webdesign.org/web/3d-graphics/tutorials/painting-a-crate.4993.html&amp;usg=__K3yGko1ERdHvtdzrz-vPbJAMHmY=&amp;h=301&amp;w=410&amp;sz=18&amp;hl=EN&amp;start=2&amp;tbnid=2Afmmw2jr6qdlM:&amp;tbnh=92&amp;tbnw=125&amp;prev=/images?q=crate&amp;gbv=2&amp;hl=EN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mamastaverna.com/images/begin_grate_tomato.jpg&amp;imgrefurl=http://mamastaverna.com/how-to-grate-tomatoes/&amp;usg=__Q1nUY26tqI7kHphxP7vCXF1KVao=&amp;h=300&amp;w=400&amp;sz=7&amp;hl=EN&amp;start=2&amp;tbnid=5PIaTOP53qXC4M:&amp;tbnh=93&amp;tbnw=124&amp;prev=/images?q=grate&amp;gbv=2&amp;hl=EN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gascoals.net/Portals/1/Grates/burning-grate.jpg&amp;imgrefurl=http://www.gascoals.net/Accessories/Grates/tabid/805/Default.aspx&amp;usg=__17SY_2VbIzl6ufJf2ery28bcCQY=&amp;h=279&amp;w=400&amp;sz=31&amp;hl=EN&amp;start=4&amp;tbnid=bs0G_MW50TF9uM:&amp;tbnh=86&amp;tbnw=124&amp;prev=/images?q=grate&amp;gbv=2&amp;hl=EN" TargetMode="External"/><Relationship Id="rId14" Type="http://schemas.openxmlformats.org/officeDocument/2006/relationships/image" Target="../media/image22.jpeg"/><Relationship Id="rId15" Type="http://schemas.openxmlformats.org/officeDocument/2006/relationships/hyperlink" Target="http://images.google.com/imgres?imgurl=http://www.imagesfromhere.com/archives/Grate%2520Work%25206794.jpg&amp;imgrefurl=http://www.imagesfromhere.com/archives/2006/03/grate_work.html&amp;usg=__Peymh6lEx9Km4BPGGTE1yGs1LoM=&amp;h=420&amp;w=420&amp;sz=148&amp;hl=EN&amp;start=10&amp;tbnid=cvZoYodsx-tbEM:&amp;tbnh=125&amp;tbnw=125&amp;prev=/images?q=grate&amp;gbv=2&amp;hl=EN" TargetMode="External"/><Relationship Id="rId16" Type="http://schemas.openxmlformats.org/officeDocument/2006/relationships/image" Target="../media/image23.jpeg"/><Relationship Id="rId17" Type="http://schemas.openxmlformats.org/officeDocument/2006/relationships/hyperlink" Target="http://images.google.com/imgres?imgurl=http://members.ozemail.com.au/~xenophon/owl_service_plate_col.jpg&amp;imgrefurl=http://members.ozemail.com.au/~xenophon/owls.html&amp;usg=__XV9VeTaSuVaUCtwaaUQ32QHg_5U=&amp;h=683&amp;w=716&amp;sz=43&amp;hl=EN&amp;start=6&amp;tbnid=y2BP9GhdFfL4OM:&amp;tbnh=134&amp;tbnw=140&amp;prev=/images?q=plate&amp;gbv=2&amp;hl=EN" TargetMode="External"/><Relationship Id="rId18" Type="http://schemas.openxmlformats.org/officeDocument/2006/relationships/image" Target="../media/image24.jpeg"/><Relationship Id="rId19" Type="http://schemas.openxmlformats.org/officeDocument/2006/relationships/hyperlink" Target="http://images.google.com/imgres?imgurl=http://www.flooringoutdoors.com/images/slate_patio.jpg&amp;imgrefurl=http://www.flooringoutdoors.com/Stone_Tile_Flooring.html&amp;usg=__moe5Z4XH0KbCfPLfTRvaUEtqAAE=&amp;h=600&amp;w=800&amp;sz=67&amp;hl=EN&amp;start=10&amp;tbnid=Go53LOPDUj7dXM:&amp;tbnh=107&amp;tbnw=143&amp;prev=/images?q=slate&amp;gbv=2&amp;hl=EN" TargetMode="External"/><Relationship Id="rId20" Type="http://schemas.openxmlformats.org/officeDocument/2006/relationships/image" Target="../media/image25.jpeg"/><Relationship Id="rId21" Type="http://schemas.openxmlformats.org/officeDocument/2006/relationships/hyperlink" Target="http://images.google.com/imgres?imgurl=http://slate-pencils.com/yahoo_site_admin/assets/images/Slate-Pencils.258183511_std.jpg&amp;imgrefurl=http://slate-pencils.com/&amp;usg=__A-m_TOkOs2ufZ3PdFHqOqj0hF-U=&amp;h=645&amp;w=800&amp;sz=66&amp;hl=EN&amp;start=188&amp;tbnid=9j-8Ih9w2u-OgM:&amp;tbnh=115&amp;tbnw=143&amp;prev=/images?q=slate&amp;gbv=2&amp;ndsp=20&amp;hl=EN&amp;sa=N&amp;start=180" TargetMode="External"/><Relationship Id="rId22" Type="http://schemas.openxmlformats.org/officeDocument/2006/relationships/image" Target="../media/image26.jpeg"/><Relationship Id="rId23" Type="http://schemas.openxmlformats.org/officeDocument/2006/relationships/hyperlink" Target="http://images.google.com/imgres?imgurl=http://i.factmonster.com/images/states_imgmap.gif&amp;imgrefurl=http://www.factmonster.com/states.html&amp;usg=__vwHMPwtmFPfNLmG2rZwk5epFpm8=&amp;h=330&amp;w=480&amp;sz=26&amp;hl=EN&amp;start=3&amp;tbnid=_pZeCfUo832nyM:&amp;tbnh=89&amp;tbnw=129&amp;prev=/images?q=state&amp;gbv=2&amp;hl=EN" TargetMode="External"/><Relationship Id="rId24" Type="http://schemas.openxmlformats.org/officeDocument/2006/relationships/image" Target="../media/image27.jpeg"/><Relationship Id="rId2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8.xml"/><Relationship Id="rId3" Type="http://schemas.openxmlformats.org/officeDocument/2006/relationships/slide" Target="slide90.xml"/><Relationship Id="rId4" Type="http://schemas.openxmlformats.org/officeDocument/2006/relationships/slide" Target="slide123.xml"/><Relationship Id="rId5" Type="http://schemas.openxmlformats.org/officeDocument/2006/relationships/slide" Target="slide146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miss.bioeng.auckland.ac.nz/development/examples/a/animate_jaw/web_data/animate_jaw.png&amp;imgrefurl=http://cmiss.bioeng.auckland.ac.nz/development/examples/a/animate_jaw/index.html&amp;usg=__FBjw_Srgl6RGdxK5fhb2Cl_cKnY=&amp;h=512&amp;w=512&amp;sz=98&amp;hl=EN&amp;start=8&amp;tbnid=sxXH0STGvmzvbM:&amp;tbnh=131&amp;tbnw=131&amp;prev=/images?q=jaw&amp;gbv=2&amp;hl=EN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google.com/imgres?imgurl=http://upload.wikimedia.org/wikipedia/commons/thumb/8/8d/Paw_and_pads.jpg/250px-Paw_and_pads.jpg&amp;imgrefurl=http://en.wikipedia.org/wiki/Paw&amp;usg=__Pw1v_QyoyC1f0DKhTBiy1wkBpfU=&amp;h=333&amp;w=250&amp;sz=21&amp;hl=EN&amp;start=7&amp;tbnid=k0mOF0-DA19QgM:&amp;tbnh=119&amp;tbnw=89&amp;prev=/images?q=paw&amp;gbv=2&amp;hl=EN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google.com/imgres?imgurl=http://wwwdelivery.superstock.com/WI/223/1525/PreviewComp/SuperStock_1525R-6906.jpg&amp;imgrefurl=http://www.superstock.com/stock-photos-images/1525R-6906&amp;usg=__IrI4P00Sbvvwh-CdZR13sy3-8tI=&amp;h=350&amp;w=350&amp;sz=64&amp;hl=EN&amp;start=6&amp;tbnid=yMmK3FWmEfAHQM:&amp;tbnh=120&amp;tbnw=120&amp;prev=/images?q=raw+meat&amp;gbv=2&amp;hl=EN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google.com/imgres?imgurl=http://www.dorota.net/Determined%2520to%2520suck%2520toe.jpg&amp;imgrefurl=http://www.dorota.net/Photos.htm&amp;usg=__pfSKpEwVzDri8uchPqSTteqpvHU=&amp;h=279&amp;w=264&amp;sz=11&amp;hl=EN&amp;start=1&amp;tbnid=Mkv60ugrUx1yrM:&amp;tbnh=114&amp;tbnw=108&amp;prev=/images?q=gnaw&amp;gbv=2&amp;hl=EN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google.com/imgres?imgurl=http://i1.treknature.com/photos/1387/owl-claw.jpg&amp;imgrefurl=http://www.treknature.com/gallery/North_America/United_States/photo36492.htm&amp;usg=__bFMsHfuYtc_IlwNZhYChXuqdcL8=&amp;h=568&amp;w=800&amp;sz=198&amp;hl=EN&amp;start=17&amp;tbnid=adn9ibTL4MLBWM:&amp;tbnh=102&amp;tbnw=143&amp;prev=/images?q=claw&amp;gbv=2&amp;ndsp=20&amp;hl=EN&amp;sa=N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s.google.com/imgres?imgurl=http://www.pdphoto.org/jons/pictures3/crawfish_4_bg_032603.jpg&amp;imgrefurl=http://www.pdphoto.org/PictureDetail.php?mat=pdef&amp;pg=5418&amp;usg=__pfJ95RLrrQnIy08S7-QT7JNwFnI=&amp;h=768&amp;w=1024&amp;sz=114&amp;hl=EN&amp;start=1&amp;tbnid=CkAGNAzw4tPjVM:&amp;tbnh=113&amp;tbnw=150&amp;prev=/images?q=crawfish&amp;gbv=2&amp;hl=EN" TargetMode="External"/><Relationship Id="rId12" Type="http://schemas.openxmlformats.org/officeDocument/2006/relationships/image" Target="../media/image36.jpeg"/><Relationship Id="rId13" Type="http://schemas.openxmlformats.org/officeDocument/2006/relationships/hyperlink" Target="http://images.google.com/imgres?imgurl=http://michaelontheair.com/blog/wp-content/uploads/2006/12/sides_slaw.gif&amp;imgrefurl=http://www.michaelontheair.com/blog/index.php?s=slaw&amp;usg=__z4-x6JL-xONxpPOj98e3iKsLyh0=&amp;h=326&amp;w=400&amp;sz=110&amp;hl=EN&amp;start=1&amp;tbnid=RAsXLYvoHcHEDM:&amp;tbnh=101&amp;tbnw=124&amp;prev=/images?q=slaw&amp;gbv=2&amp;hl=EN" TargetMode="External"/><Relationship Id="rId14" Type="http://schemas.openxmlformats.org/officeDocument/2006/relationships/image" Target="../media/image37.jpeg"/><Relationship Id="rId15" Type="http://schemas.openxmlformats.org/officeDocument/2006/relationships/hyperlink" Target="http://images.google.com/imgres?imgurl=http://www.spiritualliving.net/straw%2520glass%2520smalll.jpg&amp;imgrefurl=http://www.sciencemadesimple.co.uk/page72g.html&amp;usg=__k-75vbRybt-OEMNc990A3d-QM_Y=&amp;h=499&amp;w=500&amp;sz=54&amp;hl=EN&amp;start=8&amp;tbnid=yKcdPWJ-v3cJkM:&amp;tbnh=130&amp;tbnw=130&amp;prev=/images?q=straw&amp;gbv=2&amp;hl=EN" TargetMode="External"/><Relationship Id="rId16" Type="http://schemas.openxmlformats.org/officeDocument/2006/relationships/image" Target="../media/image38.jpeg"/><Relationship Id="rId17" Type="http://schemas.openxmlformats.org/officeDocument/2006/relationships/hyperlink" Target="http://images.google.com/imgres?imgurl=http://www.petshack.com.au/images/straw.jpg&amp;imgrefurl=http://www.petshack.com.au/bird-seed-pellets.html&amp;usg=__ZTECVPQds0lzebDFMDCSuiY6CWU=&amp;h=321&amp;w=380&amp;sz=65&amp;hl=EN&amp;start=10&amp;tbnid=OfxPSirDyrGXxM:&amp;tbnh=104&amp;tbnw=123&amp;prev=/images?q=straw&amp;gbv=2&amp;hl=EN" TargetMode="External"/><Relationship Id="rId18" Type="http://schemas.openxmlformats.org/officeDocument/2006/relationships/image" Target="../media/image39.jpeg"/><Relationship Id="rId19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81.xml"/><Relationship Id="rId2" Type="http://schemas.openxmlformats.org/officeDocument/2006/relationships/slide" Target="slide82.xml"/><Relationship Id="rId3" Type="http://schemas.openxmlformats.org/officeDocument/2006/relationships/slide" Target="slide83.xml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80.xml"/><Relationship Id="rId2" Type="http://schemas.openxmlformats.org/officeDocument/2006/relationships/hyperlink" Target="http://images.google.com/imgres?imgurl=http://www.mackinacparks.com/images/Mill_StoneLogo500HP.jpg&amp;imgrefurl=http://www.mackinacparks.com/parks/a-brief-history_576/&amp;h=474&amp;w=508&amp;sz=196&amp;hl=en&amp;start=110&amp;usg=__aw8k9It8mJD3UDrFcd0gO8xzBmk=&amp;tbnid=4p6qgVTRaId1SM:&amp;tbnh=122&amp;tbnw=131&amp;prev=/images?q=mill&amp;start=105&amp;gbv=2&amp;hl=en&amp;sa=N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://images.google.com/imgres?imgurl=http://www.capelinks.com/images/photo-gallery/general/brewster_grist_mill.jpg&amp;imgrefurl=http://www.capelinks.com/cape-cod/photos/detail/10/&amp;h=480&amp;w=640&amp;sz=129&amp;hl=en&amp;start=2&amp;usg=__70lZn1cGcmEmAjltpWdKobYFwr8=&amp;tbnid=GTqV6ZQf-IThSM:&amp;tbnh=103&amp;tbnw=137&amp;prev=/images?q=mill&amp;gbv=2&amp;hl=en&amp;sa=N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images.google.com/imgres?imgurl=http://byteshuffler.com/rospo/blog/uploaded_images/MillHopper-740456.jpg&amp;imgrefurl=http://gardenplotter.com/rospo/blog/2006/04/mill-rite-grain-mill-from-retsel.html&amp;h=1024&amp;w=771&amp;sz=158&amp;hl=en&amp;start=24&amp;usg=__XEK1HUatDvp7MTteFF_4XoFukcw=&amp;tbnid=SA-Y5O-iwQr_QM:&amp;tbnh=150&amp;tbnw=113&amp;prev=/images?q=mill&amp;start=21&amp;gbv=2&amp;hl=en&amp;sa=N" TargetMode="External"/><Relationship Id="rId7" Type="http://schemas.openxmlformats.org/officeDocument/2006/relationships/image" Target="../media/image42.jpeg"/><Relationship Id="rId8" Type="http://schemas.openxmlformats.org/officeDocument/2006/relationships/hyperlink" Target="http://images.google.com/imgres?imgurl=http://www.sbmchina.com/products/images/grinding_mill.jpg&amp;imgrefurl=http://www.sbmchina.com/products/grinding_mill1.html&amp;h=595&amp;w=500&amp;sz=56&amp;hl=en&amp;start=53&amp;usg=__CGkTqNq-jvcdyKcSuXuaoofDyYw=&amp;tbnid=85pdYwEJeAzW_M:&amp;tbnh=135&amp;tbnw=113&amp;prev=/images?q=mill&amp;start=42&amp;gbv=2&amp;hl=en&amp;sa=N" TargetMode="External"/><Relationship Id="rId9" Type="http://schemas.openxmlformats.org/officeDocument/2006/relationships/image" Target="../media/image43.jpeg"/><Relationship Id="rId10" Type="http://schemas.openxmlformats.org/officeDocument/2006/relationships/hyperlink" Target="http://images.google.com/imgres?imgurl=http://members.cox.net/blueridgecyclist/2005Trip/w-mabry%2520mill.jpg&amp;imgrefurl=http://members.cox.net/blueridgecyclist/2005Trip/index.htm&amp;h=480&amp;w=640&amp;sz=73&amp;hl=en&amp;start=72&amp;usg=__ZhL6bx-2Rc8oeNbniFTxT9Bm0FQ=&amp;tbnid=jc92A1AYsi4Y-M:&amp;tbnh=103&amp;tbnw=137&amp;prev=/images?q=mill&amp;start=63&amp;gbv=2&amp;hl=en&amp;sa=N" TargetMode="External"/><Relationship Id="rId11" Type="http://schemas.openxmlformats.org/officeDocument/2006/relationships/image" Target="../media/image44.jpeg"/><Relationship Id="rId12" Type="http://schemas.openxmlformats.org/officeDocument/2006/relationships/hyperlink" Target="http://images.google.com/imgres?imgurl=http://www.normist.co.uk/gra/mill.gif&amp;imgrefurl=http://www.normist.co.uk/mills.htm&amp;h=570&amp;w=481&amp;sz=37&amp;hl=en&amp;start=15&amp;usg=___KY4P_99tDFTOlMV1RExmTp2k9Q=&amp;tbnid=h28qpOPUGDZXKM:&amp;tbnh=134&amp;tbnw=113&amp;prev=/images?q=mill&amp;gbv=2&amp;hl=en&amp;sa=N" TargetMode="External"/><Relationship Id="rId13" Type="http://schemas.openxmlformats.org/officeDocument/2006/relationships/image" Target="../media/image45.jpeg"/><Relationship Id="rId1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80.xml"/><Relationship Id="rId2" Type="http://schemas.openxmlformats.org/officeDocument/2006/relationships/hyperlink" Target="http://images.google.com/imgres?imgurl=http://www.workseries.com/images/musician/Musician2.jpg&amp;imgrefurl=http://www.workseries.com/press.php&amp;h=2408&amp;w=1564&amp;sz=2679&amp;hl=en&amp;start=1&amp;usg=__TVJy5WXMgBtyIOM2VAEUDzLSjdw=&amp;tbnid=PbQX9zO8AAkY9M:&amp;tbnh=150&amp;tbnw=97&amp;prev=/images?q=musician&amp;gbv=2&amp;hl=en&amp;sa=G" TargetMode="External"/><Relationship Id="rId3" Type="http://schemas.openxmlformats.org/officeDocument/2006/relationships/image" Target="../media/image46.jpeg"/><Relationship Id="rId4" Type="http://schemas.openxmlformats.org/officeDocument/2006/relationships/hyperlink" Target="http://images.google.com/imgres?imgurl=http://www.feightstudios.com/images/musician.jpg&amp;imgrefurl=http://www.feightstudios.com/etc.htm&amp;h=396&amp;w=279&amp;sz=30&amp;hl=en&amp;start=2&amp;usg=__34lQerSXtVSxQOEixUumIT7ZIw4=&amp;tbnid=W5VjLxmeYr9CmM:&amp;tbnh=124&amp;tbnw=87&amp;prev=/images?q=musician&amp;gbv=2&amp;hl=en&amp;sa=G" TargetMode="External"/><Relationship Id="rId5" Type="http://schemas.openxmlformats.org/officeDocument/2006/relationships/image" Target="../media/image47.jpeg"/><Relationship Id="rId6" Type="http://schemas.openxmlformats.org/officeDocument/2006/relationships/hyperlink" Target="http://images.google.com/imgres?imgurl=http://winewriter.files.wordpress.com/2007/12/musician.jpg&amp;imgrefurl=http://winewriter.wordpress.com/2007/12/22/musicians-artists-and-writers-8x-more-likely-to-have-synesthesia-than-general-population/&amp;h=540&amp;w=720&amp;sz=99&amp;hl=en&amp;start=3&amp;usg=__VR0Og7h0EKuNwWkcFva-YBM1LUY=&amp;tbnid=XcXv20BJTTK-ZM:&amp;tbnh=105&amp;tbnw=140&amp;prev=/images?q=musician&amp;gbv=2&amp;hl=en&amp;sa=G" TargetMode="External"/><Relationship Id="rId7" Type="http://schemas.openxmlformats.org/officeDocument/2006/relationships/image" Target="../media/image48.jpeg"/><Relationship Id="rId8" Type="http://schemas.openxmlformats.org/officeDocument/2006/relationships/hyperlink" Target="http://images.google.com/imgres?imgurl=http://esterofl.org/gecac/images/gen-musician.jpg&amp;imgrefurl=http://esterofl.org/gecac/links.htm&amp;h=1024&amp;w=819&amp;sz=204&amp;hl=en&amp;start=16&amp;usg=__vlOxNbVRiN52iCa-mhRSFsVgwmU=&amp;tbnid=nQ468fe4i4jazM:&amp;tbnh=150&amp;tbnw=120&amp;prev=/images?q=musician&amp;gbv=2&amp;hl=en&amp;sa=G" TargetMode="External"/><Relationship Id="rId9" Type="http://schemas.openxmlformats.org/officeDocument/2006/relationships/image" Target="../media/image49.jpeg"/><Relationship Id="rId10" Type="http://schemas.openxmlformats.org/officeDocument/2006/relationships/hyperlink" Target="http://images.google.com/imgres?imgurl=http://bp3.blogger.com/_ovJS1Em-6dg/RiSDqt7flHI/AAAAAAAAGl0/hGaxaOoIXj4/s400/fourfingeredPianist.jpg&amp;imgrefurl=http://spluch.blogspot.com/2007/04/four-fingered-pianist-to-play-concert.html&amp;h=396&amp;w=274&amp;sz=20&amp;hl=en&amp;start=54&amp;usg=__ikl7uXDaF97PO9bwbWMjzJkAlOs=&amp;tbnid=UxHfhSh2QTjk2M:&amp;tbnh=124&amp;tbnw=86&amp;prev=/images?q=pianist&amp;start=42&amp;gbv=2&amp;hl=en&amp;sa=N" TargetMode="External"/><Relationship Id="rId11" Type="http://schemas.openxmlformats.org/officeDocument/2006/relationships/image" Target="../media/image50.jpeg"/><Relationship Id="rId12" Type="http://schemas.openxmlformats.org/officeDocument/2006/relationships/hyperlink" Target="http://images.google.com/imgres?imgurl=http://charliechiklisandthemoonlighters.com/colage_enlrg/drummer.gif&amp;imgrefurl=http://www.agoratulsa.com/blog/?m=200612&amp;h=394&amp;w=525&amp;sz=151&amp;hl=en&amp;start=10&amp;usg=__MNcPcYIQplbsljsEE74ooaP8Qks=&amp;tbnid=y-AC1xR9m7RH_M:&amp;tbnh=99&amp;tbnw=132&amp;prev=/images?q=drummer&amp;gbv=2&amp;hl=en&amp;sa=N" TargetMode="External"/><Relationship Id="rId13" Type="http://schemas.openxmlformats.org/officeDocument/2006/relationships/image" Target="../media/image51.jpeg"/><Relationship Id="rId14" Type="http://schemas.openxmlformats.org/officeDocument/2006/relationships/hyperlink" Target="http://images.google.com/imgres?imgurl=http://hfeimages.aristotle.net/DW/DW_FON_06Trinidad01_md.jpg&amp;imgrefurl=http://www.dollywood.com/shows/show_detail.aspx?AttractionID=569&amp;h=300&amp;w=300&amp;sz=49&amp;hl=en&amp;start=1&amp;usg=__OcDTyPdAuLvekXgdq4qIILOIyeU=&amp;tbnid=8OCAG53Vz8Mj7M:&amp;tbnh=116&amp;tbnw=116&amp;prev=/images?q=stix+on+steel&amp;gbv=2&amp;hl=en&amp;sa=G" TargetMode="External"/><Relationship Id="rId15" Type="http://schemas.openxmlformats.org/officeDocument/2006/relationships/image" Target="../media/image52.jpeg"/><Relationship Id="rId16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should we work together?  When should we work alone?</a:t>
            </a:r>
            <a:br>
              <a:rPr sz="2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listen to story.</a:t>
            </a:r>
            <a:br>
              <a:rPr sz="2800"/>
            </a:b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9" name="Picture 17" descr="155858694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2209680"/>
            <a:ext cx="3094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6566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new amazing words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author’s purpose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de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de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de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dba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1800" y="876240"/>
            <a:ext cx="735480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2895480" y="2133720"/>
          <a:ext cx="3470400" cy="437184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3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is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an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dream—a dream about going on a picnic or a dream about a monster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happens when you ar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ared—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you smile or your heart beats quickly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wil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ably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happen—you will see a unicorn or you will see a dog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might b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ugh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at a store every week—a dance or a loaf of bread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will mos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op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choose to drink—a cup of oil or a cup of water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might you see on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g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— “35 miles per hour” or pictures of snowflakes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is something you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l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do later today—homework or grade tests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58880" y="68544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eating</a:t>
            </a:r>
            <a:br>
              <a:rPr sz="4400"/>
            </a:br>
            <a:r>
              <a:rPr b="0" lang="en-US" sz="1600" spc="-1" strike="noStrike" u="sng">
                <a:solidFill>
                  <a:srgbClr val="cf0e3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371600" y="2133720"/>
          <a:ext cx="6359400" cy="42670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6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19191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ea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9" name="Picture 2" descr="http://tbn3.google.com/images?q=tbn:suu35JUPHRuMGM:http://z.about.com/d/culinaryarts/1/0/o/4/-/-/eggsbea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362320"/>
            <a:ext cx="1181160" cy="11142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http://tbn3.google.com/images?q=tbn:v3pDHUOl8zdN9M:http://www.srh.noaa.gov/lch/prep/hea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2514600"/>
            <a:ext cx="1333800" cy="8859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http://tbn3.google.com/images?q=tbn:EArbjuLRLLoE7M:http://www.lisburncity.gov.uk/filestore/images/Raw-Meat-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2514600"/>
            <a:ext cx="1285920" cy="914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http://tbn2.google.com/images?q=tbn:wB6KPyvXJuFGFM:http://media-cdn.tripadvisor.com/media/photo-s/01/1e/73/64/neat-and-clean-new-room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62720" y="251460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http://tbn0.google.com/images?q=tbn:Vtggeoubo_RfzM:http://forums.mooseyscountrygarden.com/files/thumbs/t_compost_peat_moss_20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38080" y="4648320"/>
            <a:ext cx="1422360" cy="1066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2" descr="http://tbn1.google.com/images?q=tbn:kdb5JRgRdREE8M:http://z.about.com/d/pediatrics/1/0/y/K/winter_coat_car_seat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14600" y="4648320"/>
            <a:ext cx="1422360" cy="10666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4" descr="http://tbn1.google.com/images?q=tbn:WuH9fWbiPkX-OM:http://www.sneakerfiles.com/wp-content/uploads/2007/03/jordan-vi-cleat-2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267080" y="46483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" descr="http://tbn1.google.com/images?q=tbn:mJAheeFCiC_RhM:http://3.bp.blogspot.com/_7T6eQRr_0A8/SYY-2dHhRWI/AAAAAAAACxc/hZZhLEB0BQc/s320/bleat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238880" y="2514600"/>
            <a:ext cx="1000080" cy="11239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8" descr="http://tbn3.google.com/images?q=tbn:QKPfmcWtwr2ZKM:http://www.bennettscurtainshop.com.au/uploadimages/triple%2520pinch%2520pleat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238880" y="4648320"/>
            <a:ext cx="1476360" cy="10666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0" descr="http://tbn3.google.com/images?q=tbn:EVM7D6M6DJuE_M:http://www.harboradvice.com/uploaded_images/Failed-Cleat-71822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638680" y="4724280"/>
            <a:ext cx="1305000" cy="98136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2"/>
          <p:cNvSpPr/>
          <p:nvPr/>
        </p:nvSpPr>
        <p:spPr>
          <a:xfrm>
            <a:off x="818280" y="342900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b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2418480" y="342900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h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1" name="TextBox 14"/>
          <p:cNvSpPr/>
          <p:nvPr/>
        </p:nvSpPr>
        <p:spPr>
          <a:xfrm>
            <a:off x="4014360" y="3429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m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2" name="TextBox 15"/>
          <p:cNvSpPr/>
          <p:nvPr/>
        </p:nvSpPr>
        <p:spPr>
          <a:xfrm>
            <a:off x="5771520" y="34290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n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3" name="TextBox 16"/>
          <p:cNvSpPr/>
          <p:nvPr/>
        </p:nvSpPr>
        <p:spPr>
          <a:xfrm>
            <a:off x="7291440" y="3581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bl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4" name="TextBox 17"/>
          <p:cNvSpPr/>
          <p:nvPr/>
        </p:nvSpPr>
        <p:spPr>
          <a:xfrm>
            <a:off x="1123200" y="571500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p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2804400" y="5715000"/>
            <a:ext cx="8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6" name="TextBox 19"/>
          <p:cNvSpPr/>
          <p:nvPr/>
        </p:nvSpPr>
        <p:spPr>
          <a:xfrm>
            <a:off x="5011920" y="57913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cl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7" name="TextBox 20"/>
          <p:cNvSpPr/>
          <p:nvPr/>
        </p:nvSpPr>
        <p:spPr>
          <a:xfrm>
            <a:off x="7519320" y="57150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pl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oph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mophon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is a word that sounds the same as another word, but has a different meaning and is spelled differently.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dog felt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ak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dog walked for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ek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oph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know – no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be – be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ere – hear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there – their – they’r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te  - eigh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unt – an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ee - sea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8680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he red a dog storie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He read a dog story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he new other storys too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He knew other stories too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singular noun names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ome nouns change spelling to name more than on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 – ner – ship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nership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happens when two or more people become partners and join together to share some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y best friend and I have a real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nership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—we do everything together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nership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f those people has lasted for many year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mouse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ate the cheese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mice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ate the cheese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woman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smiled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women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smiled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child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played on the swing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children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played on the swing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uthor’s Purpos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Read with Appropriate Phrasing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omorrow we will listen to a story about two dogs that work together to find their owner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bout a time when you worked with someone else to accomplish something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600200" y="2209680"/>
          <a:ext cx="6095880" cy="3760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7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 animals work as teams.  What things might an animal need help with?  Today we will read about how some animals work together.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600200" y="2209680"/>
          <a:ext cx="6095880" cy="3760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7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ork as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am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.  What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ing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might an animal need help with?  Today we will read about how some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ork together.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read with appropriate phrasing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compare and contrast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ad-Aloud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eff"/>
                </a:solidFill>
                <a:latin typeface="Arial"/>
              </a:rPr>
              <a:t>Down Girl and Sit Save the Day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880" y="2085840"/>
            <a:ext cx="830592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I’m putting vases on a shelf above the dishes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Don’t go toward those bushes where the puppies play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She’ll have to spell the whole word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880" y="2085840"/>
            <a:ext cx="838224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They’ll dig enough holes to plant crops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The cages are full of a bunch of bunnies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She’s making dresses like those from long ago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 – lu - tion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is the process of solving a problem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o that problem took a long tim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om came up with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by promising to drive me to the gam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58880" y="68544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pick</a:t>
            </a:r>
            <a:br>
              <a:rPr sz="4400"/>
            </a:br>
            <a:r>
              <a:rPr b="0" lang="en-US" sz="1600" spc="-1" strike="noStrike" u="sng">
                <a:solidFill>
                  <a:srgbClr val="cf0e3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371600" y="1905120"/>
          <a:ext cx="6359400" cy="45622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40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19191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qu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pi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10" name="Picture 2" descr="http://tbn3.google.com/images?q=tbn:gQ7H9nUlD8I9HM:http://danwarne.com/wp-content/uploads/2007/03/hic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209680"/>
            <a:ext cx="961920" cy="10288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http://tbn2.google.com/images?q=tbn:qkxu8D5A9UYOuM:http://www.secsportsfan.com/images/womens-soccer-kick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133720"/>
            <a:ext cx="961920" cy="1285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http://tbn0.google.com/images?q=tbn:rcJ8Jm2jsJ4N2M:http://blogs.bootsnall.com/Dawn%2Bon%2Bthe%2BAmazon/files/2007/12/Tony%2520at%2520a%2520mineral%2520lick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71800" y="2362320"/>
            <a:ext cx="1238400" cy="9334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http://tbn0.google.com/images?q=tbn:I4bMl492H89-qM:http://www.kmcreative.net/sick_in_bed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495680" y="2286000"/>
            <a:ext cx="1181160" cy="10764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0" descr="http://tbn2.google.com/images?q=tbn:Bz06kPTjlSRdaM:http://www.southbostonanimalhospital.com/storage/itchtick_AmericanDogTick_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943600" y="2209680"/>
            <a:ext cx="1333440" cy="12193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2" descr="http://tbn3.google.com/images?q=tbn:DW6jklXWEmvoQM:http://images.replacements.com/images/images5/china/P/porsgrund_hearts_pines_multisided_candle_bowl_with_lid_1_wick_P0000076868S0015T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543800" y="22096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4" descr="http://tbn0.google.com/images?q=tbn:QKs49Yq0Bkz1pM:http://www.cdb.riken.go.jp/jp/04_news/annual_reports/2003/WebHelp/chick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4419720"/>
            <a:ext cx="1224000" cy="9144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6" descr="http://tbn3.google.com/images?q=tbn:F4WjVeDXtdjg3M:http://blog.oregonlive.com/blazers/2008/04/oden-quick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09680" y="4495680"/>
            <a:ext cx="1238400" cy="828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8" descr="http://tbn3.google.com/images?q=tbn:_ZePHPcDQOHEaM:http://www.germes-online.com/direct/dbimage/50241427/Shale_Facing_Brick.jpg"/>
          <p:cNvPicPr/>
          <p:nvPr/>
        </p:nvPicPr>
        <p:blipFill>
          <a:blip r:embed="rId17"/>
          <a:stretch/>
        </p:blipFill>
        <p:spPr>
          <a:xfrm>
            <a:off x="3657600" y="4419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0" descr="http://tbn3.google.com/images?q=tbn:Vc337T2loTQ_sM:http://img.dailymail.co.uk/i/pix/2007/11_03/prickSPL2011_468x376.jpg"/>
          <p:cNvPicPr/>
          <p:nvPr/>
        </p:nvPicPr>
        <p:blipFill>
          <a:blip r:embed="rId18"/>
          <a:stretch/>
        </p:blipFill>
        <p:spPr>
          <a:xfrm>
            <a:off x="4800600" y="4419720"/>
            <a:ext cx="1041480" cy="838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2" descr="http://tbn3.google.com/images?q=tbn:YtljMx_wsDKvKM:http://www.hji.co.uk/hjimages/images/qhs2243/hji/medium/2006-men-slick.jpg"/>
          <p:cNvPicPr/>
          <p:nvPr/>
        </p:nvPicPr>
        <p:blipFill>
          <a:blip r:embed="rId19"/>
          <a:stretch/>
        </p:blipFill>
        <p:spPr>
          <a:xfrm>
            <a:off x="7391520" y="4267080"/>
            <a:ext cx="942840" cy="12574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4" descr="http://tbn2.google.com/images?q=tbn:MhH2m7D7zv67jM:http://images.wildmadagascar.org/pictures/isalo/walking_stick0071.jpg"/>
          <p:cNvPicPr/>
          <p:nvPr/>
        </p:nvPicPr>
        <p:blipFill>
          <a:blip r:embed="rId20"/>
          <a:stretch/>
        </p:blipFill>
        <p:spPr>
          <a:xfrm>
            <a:off x="6095880" y="4419720"/>
            <a:ext cx="1067040" cy="83808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4"/>
          <p:cNvSpPr/>
          <p:nvPr/>
        </p:nvSpPr>
        <p:spPr>
          <a:xfrm>
            <a:off x="592560" y="320040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h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23" name="TextBox 15"/>
          <p:cNvSpPr/>
          <p:nvPr/>
        </p:nvSpPr>
        <p:spPr>
          <a:xfrm>
            <a:off x="18961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k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24" name="TextBox 16"/>
          <p:cNvSpPr/>
          <p:nvPr/>
        </p:nvSpPr>
        <p:spPr>
          <a:xfrm>
            <a:off x="3274560" y="327672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l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25" name="TextBox 17"/>
          <p:cNvSpPr/>
          <p:nvPr/>
        </p:nvSpPr>
        <p:spPr>
          <a:xfrm>
            <a:off x="4787280" y="335268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26" name="TextBox 18"/>
          <p:cNvSpPr/>
          <p:nvPr/>
        </p:nvSpPr>
        <p:spPr>
          <a:xfrm>
            <a:off x="6312960" y="3352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t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27" name="TextBox 19"/>
          <p:cNvSpPr/>
          <p:nvPr/>
        </p:nvSpPr>
        <p:spPr>
          <a:xfrm>
            <a:off x="7607160" y="3429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w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819360" y="533412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ch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29" name="TextBox 21"/>
          <p:cNvSpPr/>
          <p:nvPr/>
        </p:nvSpPr>
        <p:spPr>
          <a:xfrm>
            <a:off x="2336400" y="53341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qu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3632040" y="533412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br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4851000" y="518148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pr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6155640" y="518148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t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33" name="TextBox 25"/>
          <p:cNvSpPr/>
          <p:nvPr/>
        </p:nvSpPr>
        <p:spPr>
          <a:xfrm>
            <a:off x="7529040" y="5486400"/>
            <a:ext cx="8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l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nimals Helping Animal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Student Pages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Student Pages"/>
          <p:cNvPicPr/>
          <p:nvPr/>
        </p:nvPicPr>
        <p:blipFill>
          <a:blip r:embed="rId1"/>
          <a:stretch/>
        </p:blipFill>
        <p:spPr>
          <a:xfrm>
            <a:off x="115920" y="304920"/>
            <a:ext cx="8875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5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529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ff"/>
              </a:solidFill>
              <a:latin typeface="Arial"/>
            </a:endParaRPr>
          </a:p>
          <a:p>
            <a:pPr marL="529920" indent="-5299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the donkey blue the hurn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29920" indent="-5299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The donkey blew the horn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29920" indent="-5299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the dog stated to hum a tun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29920" indent="-5299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The dog started to hum a tune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ome nouns change to a different word when they are made plural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rviv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 – vi - val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viva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means the act of living on or of surviv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viva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f the people in that fire depended on the firefighter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viva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in a harsh place like the desert is difficult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ee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u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ee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u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ee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c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ext to Self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e heard a story about two dogs that search for their masters.  Tomorrow we will hear again about how these two dogs insist on helping their masters find their way hom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ist ways animals help each other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676520" y="2057400"/>
          <a:ext cx="6095880" cy="42973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30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is week we read about animals helping each other to live and enjoy life.  Some formed a singing group, some cheered up unhappy friends, and some kept each other safe and clean.  Why is it often better to work with others?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6566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plurals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vocabulary words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ad-Aloud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eff"/>
                </a:solidFill>
                <a:latin typeface="Arial"/>
              </a:rPr>
              <a:t>Down Girl and Sit Save the Day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The ladies ate grapes and jellie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adi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at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ap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jelli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I put away the dishes, plates, and cup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I put away th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h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lat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, and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up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24386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listen to this song about helping other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0" name="Picture 2" descr="A Partnership with You"/>
          <p:cNvPicPr/>
          <p:nvPr/>
        </p:nvPicPr>
        <p:blipFill>
          <a:blip r:embed="rId1"/>
          <a:srcRect l="4276" t="-1041" r="0" b="7848"/>
          <a:stretch/>
        </p:blipFill>
        <p:spPr>
          <a:xfrm>
            <a:off x="3809880" y="152280"/>
            <a:ext cx="51055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440" y="2085840"/>
            <a:ext cx="807732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He gave the babies their lunches and drink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He gave th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bi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their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unch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rink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The bunnies ran through the bushe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unni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ran through th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ush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8680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another word for nic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an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the opposite of sol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ugh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se are men, women, boys, and girl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another word for afrai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are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something you rea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gn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means about the same as will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l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another word for most likel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abl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8380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usicia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citeme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robber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nster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artnership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lutio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a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serab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rugg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epen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miliar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nsis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2895480" y="2133720"/>
          <a:ext cx="3470400" cy="437184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3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donkey humed with Dog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Donkey hummed with Dog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what fun they had. 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What fun they had!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view Gam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Vocabulary &amp; Amazing Words: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Jigwor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pelling Words: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Quia Gam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pelling City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High Frequency Words: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Hot Potatoes (fill-in-the-blank)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 story with a problem and solution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lated Lin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219320" y="2209680"/>
          <a:ext cx="6476760" cy="4334040"/>
        </p:xfrm>
        <a:graphic>
          <a:graphicData uri="http://schemas.openxmlformats.org/drawingml/2006/table">
            <a:tbl>
              <a:tblPr/>
              <a:tblGrid>
                <a:gridCol w="6476760"/>
              </a:tblGrid>
              <a:tr h="43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tch animal baby to parent.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Animal Sounds- Who Said That?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ey're, Their, and There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rain Pop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e Bremen Town Musician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nline Story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 Online Book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 Brain Tease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nited Streaming Video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s: A First Look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mophones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Video Clip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tween the Lions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e Plural Gir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unBrain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lagged      -      skating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Both these words have a base word, an ending, and a spelling change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What is the base word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What is the ending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What are the spelling changes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Today you’ll learn about endings for plurals, words that mean “more than one.”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PTPlus Video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(Password Required)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380880" y="2286000"/>
          <a:ext cx="8305920" cy="251460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Rabbit Ears Children's Literature Collection: The Bremen Town Musician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828720"/>
            <a:ext cx="778680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ceff"/>
                </a:solidFill>
                <a:latin typeface="Arial"/>
              </a:rPr>
              <a:t>Tests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ceff"/>
                </a:solidFill>
                <a:latin typeface="Arial"/>
              </a:rPr>
              <a:t>Story Tests: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Reading Street for Students:  Reading Test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R Test:  Bremen Town Musician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Other Reading Quiz # 904612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ce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rs      -      wish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To make words mean “more than one,” the end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–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–e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is adde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The end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–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is added to most words;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e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is added to words that end i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h, ch, tch, s, ss,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x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ity      -      citi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If a word ends in a consonant followed by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, you will change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to a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and ad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e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52480" y="2085840"/>
            <a:ext cx="274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atc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dis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ox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enn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farm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ranc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udd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glass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05160" y="2085840"/>
            <a:ext cx="33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art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lunc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mess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fox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skirt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cand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sas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od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on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19191"/>
                </a:solidFill>
                <a:latin typeface="Arial"/>
              </a:rPr>
              <a:t>Small Group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f0e30"/>
                </a:solidFill>
                <a:uFillTx/>
                <a:latin typeface="Arial"/>
                <a:hlinkClick r:id="rId1"/>
              </a:rPr>
              <a:t>Timer</a:t>
            </a:r>
            <a:endParaRPr b="0" lang="en-US" sz="5400" spc="-1" strike="noStrike">
              <a:solidFill>
                <a:srgbClr val="c1ce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3815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7"/>
              </a:rPr>
              <a:t>Spelling City –Voc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8"/>
              </a:rPr>
              <a:t>Spelling City-Amazing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52520" y="1980720"/>
            <a:ext cx="3892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  <a:ea typeface="Arial"/>
              </a:rPr>
              <a:t>Spelling Words: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  <a:ea typeface="Arial"/>
              </a:rPr>
              <a:t>High Frequency Words: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13"/>
              </a:rPr>
              <a:t>Fill-in-the Blank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14"/>
              </a:rPr>
              <a:t>Spelling City</a:t>
            </a: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15"/>
              </a:rPr>
              <a:t> 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anc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anc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ircu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anc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ircu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an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52480" y="2085840"/>
            <a:ext cx="274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mix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corners 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germ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hitc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tor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ros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is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erc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05160" y="2085840"/>
            <a:ext cx="33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center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lil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rm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gerbil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upp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bus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cent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8880" y="68544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crash</a:t>
            </a:r>
            <a:br>
              <a:rPr sz="4400"/>
            </a:br>
            <a:r>
              <a:rPr b="0" lang="en-US" sz="1600" spc="-1" strike="noStrike" u="sng">
                <a:solidFill>
                  <a:srgbClr val="cf0e3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447920" y="1828800"/>
          <a:ext cx="6359400" cy="49402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44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19191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g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cra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2" descr="http://tbn0.google.com/images?q=tbn:Pgh4NVk66_71-M:http://blogs.southtownstar.com/money/cas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133720"/>
            <a:ext cx="866520" cy="1295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tbn2.google.com/images?q=tbn:cJeCOBaHPI7ZpM:http://doclibrary.com/MFR457/IMG/Dash_Family_300_dpi_whiteback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2209680"/>
            <a:ext cx="876600" cy="1209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http://tbn1.google.com/images?q=tbn:6zQNYgiKuTNW7M:http://blogs.warwick.ac.uk/images/emilylewis/2005/03/01/dscn125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38280" y="419112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http://tbn3.google.com/images?q=tbn:5gzzD4o8lOkK1M:http://simplyrecipes.com/photos/corned-beef-hash-a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267080" y="4267080"/>
            <a:ext cx="1238400" cy="828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http://tbn1.google.com/images?q=tbn:15WxZ5rl1tgrzM:http://permanentcosmeticsbymicheleknittel.com/pictures/lashes/lash6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90720" y="4267080"/>
            <a:ext cx="1181160" cy="990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http://tbn0.google.com/images?q=tbn:M_r4YbGwsmXJTM:http://ninjabread.files.wordpress.com/2008/10/mashed-potatoes-abfood0107-de-76603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05320" y="2209680"/>
            <a:ext cx="952560" cy="121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6" descr="http://tbn1.google.com/images?q=tbn:wj7RGS4Tb75TiM:http://owl.me.uk/img-lib/rash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800600" y="2133720"/>
            <a:ext cx="942840" cy="1361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" descr="http://tbn3.google.com/images?q=tbn:rOCPAdpOdy6PgM:http://s7d4.scene7.com/ir/render/AlfredAngeloRender/SASH-3-600%3Fwid%3D340%26obj%3Dmain%26sharpen%3D1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410080" y="5648400"/>
            <a:ext cx="838440" cy="1109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0" descr="http://tbn2.google.com/images?q=tbn:8cOSNkQSFc8zKM:http://www.sashwindows-northwest.co.uk/images/sash-windows-installation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429000" y="563868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2" descr="http://tbn1.google.com/images?q=tbn:ztH9sOZoIFX0XM:http://www.germes-online.com/direct/dbimage/50117387/Easydisk__Flash_USB_Drive_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095880" y="22096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4" descr="http://tbn0.google.com/images?q=tbn:chH802VxMdbbZM:http://www.droto.com/blog/wp-content/uploads/2008/02/camera_flash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543800" y="2133720"/>
            <a:ext cx="952560" cy="1266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http://tbn1.google.com/images?q=tbn:QD4NB--iU3bw7M:http://outfoxingkarlrove.files.wordpress.com/2008/10/tire-slashed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019920" y="4191120"/>
            <a:ext cx="1181160" cy="885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8" descr="http://tbn0.google.com/images?q=tbn:P3FoVRYERAgEKM:http://blog.tmcnet.com/blog/tom-keating/images/hulk-smash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620120" y="4114800"/>
            <a:ext cx="1143000" cy="11336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6"/>
          <p:cNvSpPr/>
          <p:nvPr/>
        </p:nvSpPr>
        <p:spPr>
          <a:xfrm>
            <a:off x="4476960" y="60199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39" name="TextBox 17"/>
          <p:cNvSpPr/>
          <p:nvPr/>
        </p:nvSpPr>
        <p:spPr>
          <a:xfrm>
            <a:off x="974160" y="34290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c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0" name="TextBox 18"/>
          <p:cNvSpPr/>
          <p:nvPr/>
        </p:nvSpPr>
        <p:spPr>
          <a:xfrm>
            <a:off x="2186280" y="3352680"/>
            <a:ext cx="9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d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1" name="TextBox 19"/>
          <p:cNvSpPr/>
          <p:nvPr/>
        </p:nvSpPr>
        <p:spPr>
          <a:xfrm>
            <a:off x="3476520" y="34290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m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2" name="TextBox 20"/>
          <p:cNvSpPr/>
          <p:nvPr/>
        </p:nvSpPr>
        <p:spPr>
          <a:xfrm>
            <a:off x="4851360" y="350532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r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3" name="TextBox 21"/>
          <p:cNvSpPr/>
          <p:nvPr/>
        </p:nvSpPr>
        <p:spPr>
          <a:xfrm>
            <a:off x="6835320" y="34290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fl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4" name="TextBox 22"/>
          <p:cNvSpPr/>
          <p:nvPr/>
        </p:nvSpPr>
        <p:spPr>
          <a:xfrm>
            <a:off x="1199880" y="5257800"/>
            <a:ext cx="8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l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5" name="TextBox 23"/>
          <p:cNvSpPr/>
          <p:nvPr/>
        </p:nvSpPr>
        <p:spPr>
          <a:xfrm>
            <a:off x="2642760" y="518148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g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6" name="TextBox 24"/>
          <p:cNvSpPr/>
          <p:nvPr/>
        </p:nvSpPr>
        <p:spPr>
          <a:xfrm>
            <a:off x="4472280" y="51055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h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7" name="TextBox 25"/>
          <p:cNvSpPr/>
          <p:nvPr/>
        </p:nvSpPr>
        <p:spPr>
          <a:xfrm>
            <a:off x="6148080" y="510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l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8" name="TextBox 26"/>
          <p:cNvSpPr/>
          <p:nvPr/>
        </p:nvSpPr>
        <p:spPr>
          <a:xfrm>
            <a:off x="7663320" y="525780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m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8880" y="68544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skate</a:t>
            </a:r>
            <a:br>
              <a:rPr sz="4400"/>
            </a:br>
            <a:r>
              <a:rPr b="0" lang="en-US" sz="1600" spc="-1" strike="noStrike" u="sng">
                <a:solidFill>
                  <a:srgbClr val="cf0e3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447920" y="2286000"/>
          <a:ext cx="6359400" cy="4213080"/>
        </p:xfrm>
        <a:graphic>
          <a:graphicData uri="http://schemas.openxmlformats.org/drawingml/2006/table">
            <a:tbl>
              <a:tblPr/>
              <a:tblGrid>
                <a:gridCol w="2133360"/>
                <a:gridCol w="2106720"/>
                <a:gridCol w="21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75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19191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skat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2" name="Picture 2" descr="http://tbn3.google.com/images?q=tbn:f_WXEEEVdRXd5M:http://upload.wikimedia.org/wikipedia/commons/1/17/Dates_on_date_pal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057400"/>
            <a:ext cx="952560" cy="1390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http://tbn0.google.com/images?q=tbn:2xEUmFuBS5fenM:http://www.vertex42.com/calendars/images/monthly-calendar-template-large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2133720"/>
            <a:ext cx="1324080" cy="1276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http://tbn1.google.com/images?q=tbn:xYftbY23QA3kUM:http://imagecache5.art.com/p/LRG/19/1919/1OM9D00Z/steven-mitchell-the-opened-gat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2133720"/>
            <a:ext cx="952560" cy="1209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http://tbn0.google.com/images?q=tbn:jlu4nYa8sygCUM:http://www.siestacrafts.co.uk/__uploads/Catalog/NK21B%2520space%2520dye%2520cotton%2520gloves_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2133720"/>
            <a:ext cx="942840" cy="1257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http://tbn2.google.com/images?q=tbn:2Afmmw2jr6qdlM:http://www.webdesign.org/img_articles/4993/crate18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10280" y="2286000"/>
            <a:ext cx="1190880" cy="876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http://tbn2.google.com/images?q=tbn:5PIaTOP53qXC4M:http://mamastaverna.com/images/begin_grate_tomato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41148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http://tbn2.google.com/images?q=tbn:bs0G_MW50TF9uM:http://www.gascoals.net/Portals/1/Grates/burning-grat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133720" y="4191120"/>
            <a:ext cx="1181160" cy="819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http://tbn0.google.com/images?q=tbn:cvZoYodsx-tbEM:http://www.imagesfromhere.com/archives/Grate%2520Work%25206794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733920" y="39625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http://tbn3.google.com/images?q=tbn:y2BP9GhdFfL4OM:http://members.ozemail.com.au/~xenophon/owl_service_plate_col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334120" y="4038480"/>
            <a:ext cx="1143000" cy="1094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0" descr="http://tbn3.google.com/images?q=tbn:Go53LOPDUj7dXM:http://www.flooringoutdoors.com/images/slate_patio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638680" y="556272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" descr="http://tbn0.google.com/images?q=tbn:9j-8Ih9w2u-OgM:http://slate-pencils.com/yahoo_site_admin/assets/images/Slate-Pencils.258183511_std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048120" y="5562720"/>
            <a:ext cx="1361880" cy="1095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4" descr="http://tbn2.google.com/images?q=tbn:_pZeCfUo832nyM:http://i.factmonster.com/images/states_imgmap.gif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934320" y="4267080"/>
            <a:ext cx="1228680" cy="8478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4"/>
          <p:cNvSpPr/>
          <p:nvPr/>
        </p:nvSpPr>
        <p:spPr>
          <a:xfrm>
            <a:off x="4552920" y="59436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l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65" name="TextBox 15"/>
          <p:cNvSpPr/>
          <p:nvPr/>
        </p:nvSpPr>
        <p:spPr>
          <a:xfrm>
            <a:off x="732240" y="495288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gr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66" name="TextBox 16"/>
          <p:cNvSpPr/>
          <p:nvPr/>
        </p:nvSpPr>
        <p:spPr>
          <a:xfrm>
            <a:off x="2179800" y="495288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gr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67" name="TextBox 17"/>
          <p:cNvSpPr/>
          <p:nvPr/>
        </p:nvSpPr>
        <p:spPr>
          <a:xfrm>
            <a:off x="3780000" y="510552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gr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68" name="TextBox 18"/>
          <p:cNvSpPr/>
          <p:nvPr/>
        </p:nvSpPr>
        <p:spPr>
          <a:xfrm>
            <a:off x="5461920" y="51055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pl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69" name="TextBox 19"/>
          <p:cNvSpPr/>
          <p:nvPr/>
        </p:nvSpPr>
        <p:spPr>
          <a:xfrm>
            <a:off x="7068240" y="5105520"/>
            <a:ext cx="9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t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70" name="TextBox 20"/>
          <p:cNvSpPr/>
          <p:nvPr/>
        </p:nvSpPr>
        <p:spPr>
          <a:xfrm>
            <a:off x="1580400" y="35053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d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71" name="TextBox 21"/>
          <p:cNvSpPr/>
          <p:nvPr/>
        </p:nvSpPr>
        <p:spPr>
          <a:xfrm>
            <a:off x="4247280" y="33526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g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72" name="TextBox 22"/>
          <p:cNvSpPr/>
          <p:nvPr/>
        </p:nvSpPr>
        <p:spPr>
          <a:xfrm>
            <a:off x="5690880" y="3429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m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73" name="TextBox 23"/>
          <p:cNvSpPr/>
          <p:nvPr/>
        </p:nvSpPr>
        <p:spPr>
          <a:xfrm>
            <a:off x="7139880" y="320040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cr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t Talk About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rking Together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l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usici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citemen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robb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nst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495680" y="205740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artnership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a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serabl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ruggl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epend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milia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nsis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750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has a reason for writ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someth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tain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someth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the reader to think or act in a certain wa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Read-Aloud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ceff"/>
                </a:solidFill>
                <a:latin typeface="Arial"/>
              </a:rPr>
              <a:t>The Mango Tree</a:t>
            </a:r>
            <a:endParaRPr b="0" lang="en-US" sz="5400" spc="-1" strike="noStrike">
              <a:solidFill>
                <a:srgbClr val="c1ce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eff"/>
                </a:solidFill>
                <a:latin typeface="Arial"/>
              </a:rPr>
              <a:t>the donkey didnt have any food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9100"/>
                </a:solidFill>
                <a:latin typeface="Arial"/>
              </a:rPr>
              <a:t>The donkey didn’t have any food.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eff"/>
                </a:solidFill>
                <a:latin typeface="Arial"/>
              </a:rPr>
              <a:t>he mised his lunchs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9100"/>
                </a:solidFill>
                <a:latin typeface="Arial"/>
              </a:rPr>
              <a:t>He missed his lunches.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singular noun names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ome nouns change spelling to name more than on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057040" y="2085840"/>
            <a:ext cx="244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leaf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av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tooth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eth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woma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wif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v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00240" y="2133720"/>
            <a:ext cx="381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ildre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foot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et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mous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c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goos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ees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loaf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av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Plural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uthor’s Purpos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omorrow we will read about the adventures of a group of animal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bout why partnerships are important.</a:t>
                      </a:r>
                      <a:r>
                        <a:rPr b="0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600200" y="220968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day we will read about some animals traveling to Bremen Town.  We will read about how and why they work together.  When have you worked with others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600200" y="220968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day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e will read about some animals traveling to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emen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wn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. 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ill read about how and why they work together. 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have you worked with others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5480" y="21337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6566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uthor’s purpose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tory structure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vocabulary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01800" y="876240"/>
            <a:ext cx="735480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serab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 – er – a – ble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you a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erab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are very, very unhappy.  Something that is miserable causes great unhappines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Pat wa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erab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about missing school that da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ally has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erab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col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gg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 – gle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work hard to do something difficult.  If you have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have some very hard work to get something don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swimme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hard against the big wave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t is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for me to save money from my allowanc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pe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 – pend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en you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pen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n someone or something, you count on or trust that person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pen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n my alarm clock to wake me up in the morn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kitte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pend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n its mother for food and protection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ad-Alou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6" name="Picture 2" descr="From Me to You"/>
          <p:cNvPicPr/>
          <p:nvPr/>
        </p:nvPicPr>
        <p:blipFill>
          <a:blip r:embed="rId1"/>
          <a:srcRect l="-2117" t="0" r="0" b="8344"/>
          <a:stretch/>
        </p:blipFill>
        <p:spPr>
          <a:xfrm>
            <a:off x="274320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li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You can read this word because you know how to read plural word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hat is the base word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hat is the word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uck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sh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hen you come to a plural word, figure out the base word and ending and then read it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o make most words plural, you will add a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the word ends in with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, ch, tch, ss, s,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x,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you will add a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e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the word ends with one consonant and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change the y to an i and ad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e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66320" y="2085840"/>
            <a:ext cx="3435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paper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stor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batch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lash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daddi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pocket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54440" y="2085840"/>
            <a:ext cx="381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spic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patch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brush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purs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mommi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mix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80760"/>
            <a:ext cx="2743200" cy="51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listen to “Buddies Helping  You.”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5" name="Content Placeholder 12" descr="254c_chart11.gif"/>
          <p:cNvPicPr/>
          <p:nvPr/>
        </p:nvPicPr>
        <p:blipFill>
          <a:blip r:embed="rId1"/>
          <a:srcRect l="1645" t="0" r="0" b="12262"/>
          <a:stretch/>
        </p:blipFill>
        <p:spPr>
          <a:xfrm>
            <a:off x="4191120" y="22860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nd the plural words in”Buddies Helping You.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124080" y="1980720"/>
            <a:ext cx="32832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budd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job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hour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dis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supplies 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classmat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mess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lunc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chor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assmat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assmat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hor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should we work together?  When should we work alone?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assmat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hor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tunes had many note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un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had man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 will read the stories to the bab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 will read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or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to the bab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e did not switch lunche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e did not switch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unch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babies like hearing the same stor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b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like hearing the same stor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8880" y="68544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saw</a:t>
            </a:r>
            <a:br>
              <a:rPr sz="4400"/>
            </a:br>
            <a:r>
              <a:rPr b="0" lang="en-US" sz="1600" spc="-1" strike="noStrike" u="sng">
                <a:solidFill>
                  <a:srgbClr val="cf0e3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371600" y="228600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19191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g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saw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6" name="Picture 2" descr="http://tbn3.google.com/images?q=tbn:sxXH0STGvmzvbM:http://cmiss.bioeng.auckland.ac.nz/development/examples/a/animate_jaw/web_data/animate_jaw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20968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http://tbn2.google.com/images?q=tbn:k0mOF0-DA19QgM:http://upload.wikimedia.org/wikipedia/commons/thumb/8/8d/Paw_and_pads.jpg/250px-Paw_and_pad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2286000"/>
            <a:ext cx="847800" cy="11336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http://tbn2.google.com/images?q=tbn:yMmK3FWmEfAHQM:http://wwwdelivery.superstock.com/WI/223/1525/PreviewComp/SuperStock_1525R-690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2286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http://tbn2.google.com/images?q=tbn:Mkv60ugrUx1yrM:http://www.dorota.net/Determined%2520to%2520suck%2520to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05520" y="2286000"/>
            <a:ext cx="1028520" cy="1085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http://tbn1.google.com/images?q=tbn:adn9ibTL4MLBWM:http://i1.treknature.com/photos/1387/owl-claw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2514600"/>
            <a:ext cx="1362240" cy="971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http://tbn2.google.com/images?q=tbn:CkAGNAzw4tPjVM:http://www.pdphoto.org/jons/pictures3/crawfish_4_bg_032603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14400" y="42670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4" descr="http://tbn3.google.com/images?q=tbn:RAsXLYvoHcHEDM:http://michaelontheair.com/blog/wp-content/uploads/2006/12/sides_slaw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819520" y="4267080"/>
            <a:ext cx="1181160" cy="962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6" descr="http://tbn1.google.com/images?q=tbn:yKcdPWJ-v3cJkM:http://www.spiritualliving.net/straw%2520glass%2520smalll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95680" y="41148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http://tbn3.google.com/images?q=tbn:OfxPSirDyrGXxM:http://www.petshack.com.au/images/straw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553080" y="4267080"/>
            <a:ext cx="1171800" cy="9907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1"/>
          <p:cNvSpPr/>
          <p:nvPr/>
        </p:nvSpPr>
        <p:spPr>
          <a:xfrm>
            <a:off x="1062720" y="342900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j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2346480" y="34290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p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3943800" y="34290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r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58" name="TextBox 14"/>
          <p:cNvSpPr/>
          <p:nvPr/>
        </p:nvSpPr>
        <p:spPr>
          <a:xfrm>
            <a:off x="5156280" y="33526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gn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59" name="TextBox 15"/>
          <p:cNvSpPr/>
          <p:nvPr/>
        </p:nvSpPr>
        <p:spPr>
          <a:xfrm>
            <a:off x="6996960" y="35053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cl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60" name="TextBox 16"/>
          <p:cNvSpPr/>
          <p:nvPr/>
        </p:nvSpPr>
        <p:spPr>
          <a:xfrm>
            <a:off x="950040" y="53341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crawfi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61" name="TextBox 17"/>
          <p:cNvSpPr/>
          <p:nvPr/>
        </p:nvSpPr>
        <p:spPr>
          <a:xfrm>
            <a:off x="2955960" y="52578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l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62" name="TextBox 18"/>
          <p:cNvSpPr/>
          <p:nvPr/>
        </p:nvSpPr>
        <p:spPr>
          <a:xfrm>
            <a:off x="4622040" y="53341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tr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63" name="TextBox 19"/>
          <p:cNvSpPr/>
          <p:nvPr/>
        </p:nvSpPr>
        <p:spPr>
          <a:xfrm>
            <a:off x="6603120" y="52578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tr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085480"/>
            <a:ext cx="77868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An author has a reason for writ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He or she might write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tain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feeling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ince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the reader to think or act a certain wa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As you read, ask yourself what the story is about and why the author might have written it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Notice if the story is funny, serious, or sad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ory 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Story structure is how the story is put together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t includes setting, plot, and character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Each piece of the story is needed to make it whole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Paying attention to story structure as you read helps you to understand the stor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As you read, notice where and when the story takes place.  Notice who the characters are and how they act. Notice what is happen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ory 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As you read “The Bremen Town Musicians,” ask yourself these question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here does this story take place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hat happens in the beginning, middle, and end of this story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ho are the characters in this story, and what do they do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895480" y="2133720"/>
          <a:ext cx="3470400" cy="437184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3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</a:t>
                      </a: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905120" y="2085840"/>
            <a:ext cx="2597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frien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ign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love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hall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full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bought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952520" y="2085840"/>
            <a:ext cx="35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too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robably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oor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leasant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never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care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ure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0020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f0e3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times we need help when we’re working toward a goal or trying to solve a problem.  When should we work together?  When should we work alone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1" action="ppaction://hlinksldjump"/>
              </a:rPr>
              <a:t> mill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– a building where grain is crushed into flour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2" action="ppaction://hlinksldjump"/>
              </a:rPr>
              <a:t>musician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– someone who plays music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excitement – a feeling of being very happ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robbers – people who stea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onsters – scary creatur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f0e30"/>
                </a:solidFill>
                <a:uFillTx/>
                <a:latin typeface="Arial"/>
                <a:hlinkClick r:id="rId3" action="ppaction://hlinksldjump"/>
              </a:rPr>
              <a:t>Next slide</a:t>
            </a:r>
            <a:endParaRPr b="0" lang="en-US" sz="20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f0e30"/>
                </a:solidFill>
                <a:uFillTx/>
                <a:latin typeface="Arial"/>
                <a:hlinkClick r:id="rId1" action="ppaction://hlinksldjump"/>
              </a:rPr>
              <a:t>Grist Mil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8" name="Picture 13" descr="Mill_StoneLogo500H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2286000"/>
            <a:ext cx="1828800" cy="1701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5" descr="brewster_grist_mil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2209680"/>
            <a:ext cx="2362320" cy="1776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MillHopper-74045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080" y="4267080"/>
            <a:ext cx="1779840" cy="23623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grinding_mil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18240" y="4267080"/>
            <a:ext cx="1849320" cy="2210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w-mabry%2520mill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3520" y="2209680"/>
            <a:ext cx="2438280" cy="1833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9" descr="mill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809880" y="4267080"/>
            <a:ext cx="19116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f0e30"/>
                </a:solidFill>
                <a:uFillTx/>
                <a:latin typeface="Arial"/>
                <a:hlinkClick r:id="rId1" action="ppaction://hlinksldjump"/>
              </a:rPr>
              <a:t>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880" y="21337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pic>
        <p:nvPicPr>
          <p:cNvPr id="386" name="Picture 5" descr="Musician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2133720"/>
            <a:ext cx="1576440" cy="2438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musicia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60600" y="213372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musicia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469584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3" descr="gen-musician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11920" y="2133720"/>
            <a:ext cx="1951200" cy="24382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5" descr="fourfingeredPianis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724280" y="2133720"/>
            <a:ext cx="1690920" cy="2438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7" descr="drummer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581280" y="4724280"/>
            <a:ext cx="2514600" cy="1933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9" descr="DW_FON_06Trinidad01_md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58000" y="472428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tired of working at the ___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tired of working at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l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ne day three furry ____ scared Donkey and stole all the grain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ne day three furr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ster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scared Donkey and stole all the grain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h, no!  Those ___ took everything!” Donkey crie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h, no!  Thos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obber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ook everything!” Donkey crie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surprised when his owner danced with ____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surprised when his owner danced with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citemen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Now we don’t have to work, and we can become ____!” said Donkey’s owner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Now we don’t have to work, and we can becom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ician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!” said Donkey’s owner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he at good food on the fam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9100"/>
                </a:solidFill>
                <a:latin typeface="Arial"/>
              </a:rPr>
              <a:t>He ate good food on the farm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but he was’nt at the farm now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9100"/>
                </a:solidFill>
                <a:latin typeface="Arial"/>
              </a:rPr>
              <a:t>But he wasn’t at the farm now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ome nouns change to a different word when they are made plural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olf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olv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n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n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tory Structur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omorrow we will read about some friends and their special part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bout a time when you worked closely with another person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0020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f0e3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times we need help when we’re working </a:t>
                      </a:r>
                      <a:r>
                        <a:rPr b="1" i="1" lang="en-US" sz="32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toward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a goal or trying to solve a problem.  When should we work together?  When should we work alone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60020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ning Warm-Up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day we will read about Bat.  Bat is alone and sad.  What might make Bat feel better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0020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ning Warm-Up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day we will read about Bat.  Bat is alone and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sad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.  What might make Bat feel better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6566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r-controlled </a:t>
            </a:r>
            <a:r>
              <a:rPr b="1" i="1" lang="en-US" sz="3200" spc="-1" strike="noStrike">
                <a:solidFill>
                  <a:srgbClr val="c1ceff"/>
                </a:solidFill>
                <a:latin typeface="Arial"/>
              </a:rPr>
              <a:t>er, ir, ur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omophones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01800" y="876240"/>
            <a:ext cx="735480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mili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 – mil – i – ar 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omething or someo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miliar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o you is well known or close to you from repeated contact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t was nice to be home in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miliar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place after travel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By the end of the year, I will b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miliar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with my entire clas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si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– sist  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en you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sis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are making a demand or taking a stan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om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siste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hat I finish my homework before watching TV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Your best friend will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sis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hat you come to her birthday part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ad-Alou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Picture 2" descr="From Me to You"/>
          <p:cNvPicPr/>
          <p:nvPr/>
        </p:nvPicPr>
        <p:blipFill>
          <a:blip r:embed="rId1"/>
          <a:srcRect l="-2117" t="0" r="0" b="8344"/>
          <a:stretch/>
        </p:blipFill>
        <p:spPr>
          <a:xfrm>
            <a:off x="274320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2-10-22T01:29:04Z</dcterms:modified>
  <cp:revision>55</cp:revision>
  <dc:subject/>
  <dc:title>Slide 1</dc:title>
</cp:coreProperties>
</file>